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466-EC38-44E1-99C2-1636B873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4CA-4EAF-40CB-A7A4-73EC275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32F-BB55-4D08-89B5-5162359B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040-EBE1-438D-8588-22162C08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539-501C-4AE2-A3A3-5CBF92C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81E-BBCD-431F-98F9-376E2E43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716-6514-428F-9FAF-80D11FA3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71A-394C-4B5F-9474-CF4B759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6EA-5D27-4371-83E3-5827701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849-F38D-493B-A274-DC78DEB5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13A-263A-4021-ACA6-2DDF0AF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A63-8F4F-41D4-B3FB-246B9EE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219F-FCAF-4686-A2CF-349638FD8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863J Natural Language Proc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atory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181e"/>
                </a:solidFill>
                <a:latin typeface="Times New Roman"/>
              </a:rPr>
              <a:t>No laboratory just ye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22:07:22Z</dcterms:created>
  <dc:creator>Robert C. Berwick</dc:creator>
  <dc:description/>
  <dc:language>en-US</dc:language>
  <cp:lastModifiedBy>Robert C. Berwick</cp:lastModifiedBy>
  <dcterms:modified xsi:type="dcterms:W3CDTF">2001-02-04T22:12:16Z</dcterms:modified>
  <cp:revision>2</cp:revision>
  <dc:subject/>
  <dc:title>PowerPoint Presentation  -  6.863J Natural Language Processing Laboratory Assignment 1</dc:title>
</cp:coreProperties>
</file>