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2F5A-8778-4340-9887-B01DCDCD8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104000"/>
            <a:ext cx="8178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D2C1-7C65-4680-8174-3D95803A7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0400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10400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1DE6-E20F-47B7-A495-40EE20B23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67616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67616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10400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10400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10400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B469-66A9-444E-9CBE-B00894A02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DCD3D-8CFB-4BB7-B502-A77C214F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9870A-6049-4704-A8A3-C6023B85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11E98-D62A-402B-96A0-3E0947A8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6761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2E4FC-35B4-4D00-8037-213261FB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90075-3FEC-4706-928E-B0669164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-22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EF241-DCF7-4AB0-BFC7-9EB59089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6761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10400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93F78-BB21-45C7-9EED-50C72A61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6AC9-17A3-4516-A4F1-C526CD932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10400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AABFB-8FA3-4947-A644-C1790EE8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104000"/>
            <a:ext cx="8178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5EB1D-F5DC-4C44-ACAD-EF8DF548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104000"/>
            <a:ext cx="8178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A533E-621D-4450-883B-8D7F829D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10400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10400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C9F6D-3E0E-4989-9ECA-59CC2E69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67616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67616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10400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10400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104000"/>
            <a:ext cx="263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B590E-D204-4698-A7EC-87D05790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7BD9-891A-4653-AEAB-341657C1C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6761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3640-65AB-4AC7-916A-02CBFD134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BD02-63A2-47CB-9622-F0D7A6789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-22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3873-4663-41B5-9636-A12CD1C06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6761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10400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9231-52ED-4557-B4C9-CAA4ED5D4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10400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A793-9853-4E2C-A310-07178FF35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676160"/>
            <a:ext cx="3990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104000"/>
            <a:ext cx="8178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457A-82B9-4FA4-990E-FE226F16C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77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09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D2EF-6275-4566-B9AD-31FA57F8B3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1397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832480" y="6432480"/>
            <a:ext cx="22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.863J/9.611J Lecture 21 Sp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477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7309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9AE3-4787-46FF-BBD0-79E94918C7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41907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721640" cy="165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863J Natural Language Proces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cture 21: Language Acquisition Part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3885840"/>
            <a:ext cx="650268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ert C. Berwi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wick@ai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an memorization suffic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a big enough table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is largest, a &lt;noun&gt;-1, a &lt;noun&gt;-2, a &lt;noun&gt;-3, a &lt;noun&gt;-4, a &lt;noun&gt;-5, a &lt;noun&gt;-6, or a &lt;noun&gt;-7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100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 queries = 100 x 99 x …94 = 8 x 10</a:t>
            </a:r>
            <a:r>
              <a:rPr b="0" lang="en-US" sz="3300" spc="-1" strike="noStrike" baseline="30000">
                <a:solidFill>
                  <a:srgbClr val="000000"/>
                </a:solidFill>
                <a:latin typeface="Tahoma"/>
              </a:rPr>
              <a:t>13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queries/line, 275 lines, 1000 pages inch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bi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t not 4 poi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800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LCMSSI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CMSSI8"/>
              </a:rPr>
              <a:t>Finite VC-dimension is necessary and sucient for (exponentially) fast convergence of a learning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LCMSS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CMSS8"/>
              </a:rPr>
              <a:t>This result holds for </a:t>
            </a:r>
            <a:r>
              <a:rPr b="0" lang="en-US" sz="3200" spc="-1" strike="noStrike">
                <a:solidFill>
                  <a:srgbClr val="000000"/>
                </a:solidFill>
                <a:latin typeface="LCMSSB8"/>
              </a:rPr>
              <a:t>any </a:t>
            </a:r>
            <a:r>
              <a:rPr b="0" lang="en-US" sz="3200" spc="-1" strike="noStrike">
                <a:solidFill>
                  <a:srgbClr val="000000"/>
                </a:solidFill>
                <a:latin typeface="LCMSS8"/>
              </a:rPr>
              <a:t>underlying probability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fac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body don’t like 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her: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, say “Nobody likes me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body don’t like 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, say “Nobody likes me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body don’t like 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, say “Nobody likes me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body don’t like 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dialogue repeated five more times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listen carefully, say  “Nobody likes me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h! Nobody don’t likeS 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cNeill, 196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rown &amp; Hanlon, 197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ents correct for meaning, not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present, correction was not picked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problem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hild makes an err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ult may correct or identify the err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the child ignores these corre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how does the child learn to stop making the erro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t kids do recover (well, almost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-shaped curv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t - goed - w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ld must stop say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e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squeez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 the library the book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vergeneraliz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609480" y="1368360"/>
            <a:ext cx="80010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vs. negative evid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"/>
          <p:cNvSpPr/>
          <p:nvPr/>
        </p:nvSpPr>
        <p:spPr>
          <a:xfrm>
            <a:off x="456840" y="1523880"/>
            <a:ext cx="75538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examp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tteran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edback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says “went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says “goed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 says “went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&amp; Negative examp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tteran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edback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says “went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says “goed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 says “went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 says “goed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&amp; negative exampl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1295280" y="2362320"/>
            <a:ext cx="6324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 want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grammati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nt more mil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grammati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milk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grammati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gramma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rast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"/>
          <p:cNvSpPr/>
          <p:nvPr/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 want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ant more?  More wh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nt more mil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ant more mil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milk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e, honey, I’ll get you som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.  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, don’t cry, daddy is getting you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s big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15960" y="2438280"/>
          <a:ext cx="791208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2438280"/>
                    <a:ext cx="791208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895480" y="3505320"/>
            <a:ext cx="2971800" cy="152388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2438280"/>
            <a:ext cx="0" cy="255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48520" y="24908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3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M example as learning in the limit to show inf seq of 0’s or 1’s 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that exact convergence – if just 1 slip – speak Fr after 1000s of English s’s – get swat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yramid_giza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33720" cy="419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4080" y="2514600"/>
            <a:ext cx="2133720" cy="1093680"/>
          </a:xfrm>
          <a:prstGeom prst="cube">
            <a:avLst>
              <a:gd name="adj" fmla="val 25000"/>
            </a:avLst>
          </a:prstGeom>
          <a:solidFill>
            <a:srgbClr val="99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16002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48520" y="16527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3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inductive puzz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Very) small sample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—5 examples; no Wall Street Journal sub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urst eff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er of presentation of examples doesn’t ma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 statistics don’t match maturational time cou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burst effec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424960" y="1984320"/>
            <a:ext cx="1621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wo-3 word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ges 1;1–1;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00400" y="2068560"/>
            <a:ext cx="18860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ull”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some residu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2360" y="2209680"/>
            <a:ext cx="7938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22520" y="2763720"/>
            <a:ext cx="3597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? time span: 2 weeks–2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76440" y="3429000"/>
            <a:ext cx="3876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63560" y="3498840"/>
            <a:ext cx="649620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;10 ride papa's neck               2;1.2 you watch 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;10.3 this my rock-baby                  open sand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;11.2 papa forget this             2;1.3 papa, you li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is so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;4.0 I won't cry i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ama wash my 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;4.3 put this right here 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 see it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’s the differenc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1523880"/>
            <a:ext cx="44449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. I see re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2. P. want d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3. P. op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4. P. tickle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5. I go b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6. P. forge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7. P. said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8. P. want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9. You play chi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ultiple cho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a) Pidgin speakers; (b) ap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c) feral child Geni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(d) ordinary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593800" y="2997360"/>
            <a:ext cx="43372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,5,9 = pid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,4,8 = a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= G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,6=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llenge: tension headach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375080" y="2070000"/>
            <a:ext cx="1032120" cy="2497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60920" y="2849400"/>
            <a:ext cx="127080" cy="363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37040" y="2832120"/>
            <a:ext cx="127080" cy="363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56320" y="4051440"/>
            <a:ext cx="279360" cy="58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32160" y="2857680"/>
            <a:ext cx="146160" cy="515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4240" y="2781360"/>
            <a:ext cx="146160" cy="515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81320" y="31748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85880" y="2567160"/>
            <a:ext cx="10494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Warlpi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in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e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01480" y="3616200"/>
            <a:ext cx="1611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4500 oth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4320" y="2133720"/>
            <a:ext cx="339696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10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ssentially error-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inimal triggering (+ examp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obust under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till variable en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95760" y="302256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35080" y="2363760"/>
            <a:ext cx="272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01760" y="2948040"/>
            <a:ext cx="272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input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1295280"/>
            <a:ext cx="5829120" cy="59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just went away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went awa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e went back to school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went to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you playing with the plate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is the plate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're going to put the plate on the wall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's put the plate on the table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ar is on your leg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're putting the car on your leg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your other le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 c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oom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h you mean voom . the car goes voom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s are on the road 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ank you 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cow goes moo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what color is the cow 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what color is the cow 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what color is the cow ?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what col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181480" y="2297160"/>
            <a:ext cx="3657600" cy="2351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267080" y="37339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developmental puzz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ure inductive learning, then based on pattern distribution in the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’s the pattern distribution in the inpu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glish subjects: most English sentences ove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nch: only 7-8% of French sentences have inflected verb followed by negation/adverb (“Je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mbras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ouvent/p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rie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b first S’s; Obj Verb Subject trigger appears in only 2% of the cases, yet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Menu B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iv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che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wain test &amp; the Gold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gical problem of language acquisition: the Gold theorem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(human) languages be learn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gical problem of language acqui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ramework for analyzing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edictions from pure indu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lish obligatory subject should be acquir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ar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nch verb placement should be acquir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tch  verb first shouldn’t be produc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t 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because it’s not very evident in the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mpirical evidence runs completely contrary to thi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glish: Subjects acquired late (Brown, Bellugi, Bloom, Hyams…), but Subjects appear virtually 100% uniform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nch: Verb placement acquired as early as it is possible to detect (Pierce, others), but triggers don’t occur very frequ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tch: 40-50% Verb first sentences produced by kids, but 0 % in input (Klahs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: what are we doing wro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’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 statistical regularities…acquisition time course doesn’t 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1357200" cy="1981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819520" y="4343400"/>
            <a:ext cx="91440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35812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2895480"/>
            <a:ext cx="914400" cy="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55400" y="2567160"/>
            <a:ext cx="198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English Subject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(“there” senten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1% in Chil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5334120"/>
            <a:ext cx="183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Times New Roman"/>
              </a:rPr>
              <a:t>diffus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ff6600"/>
                </a:solidFill>
                <a:latin typeface="Times New Roman"/>
              </a:rPr>
              <a:t>spa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1680120" y="5304600"/>
            <a:ext cx="93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243828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51814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2895480"/>
            <a:ext cx="914400" cy="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35812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4114800"/>
            <a:ext cx="91440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5040" y="3405240"/>
            <a:ext cx="1407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nch ve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sing 7-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/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32800" y="424332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Dutch verb 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OVS 2%; 0 V1 p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33760" y="531036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53080" y="5310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5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58080" y="2590920"/>
            <a:ext cx="1409400" cy="2590560"/>
          </a:xfrm>
          <a:custGeom>
            <a:avLst/>
            <a:gdLst/>
            <a:ahLst/>
            <a:rect l="l" t="t" r="r" b="b"/>
            <a:pathLst>
              <a:path w="888" h="1632">
                <a:moveTo>
                  <a:pt x="24" y="1632"/>
                </a:moveTo>
                <a:cubicBezTo>
                  <a:pt x="12" y="1367"/>
                  <a:pt x="0" y="1103"/>
                  <a:pt x="24" y="864"/>
                </a:cubicBezTo>
                <a:cubicBezTo>
                  <a:pt x="47" y="624"/>
                  <a:pt x="24" y="336"/>
                  <a:pt x="168" y="192"/>
                </a:cubicBezTo>
                <a:cubicBezTo>
                  <a:pt x="312" y="48"/>
                  <a:pt x="600" y="24"/>
                  <a:pt x="88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705040"/>
            <a:ext cx="1600200" cy="2476440"/>
          </a:xfrm>
          <a:custGeom>
            <a:avLst/>
            <a:gdLst/>
            <a:ahLst/>
            <a:rect l="l" t="t" r="r" b="b"/>
            <a:pathLst>
              <a:path w="1008" h="1560">
                <a:moveTo>
                  <a:pt x="0" y="1560"/>
                </a:moveTo>
                <a:cubicBezTo>
                  <a:pt x="31" y="1272"/>
                  <a:pt x="63" y="984"/>
                  <a:pt x="144" y="744"/>
                </a:cubicBezTo>
                <a:cubicBezTo>
                  <a:pt x="224" y="503"/>
                  <a:pt x="352" y="239"/>
                  <a:pt x="480" y="120"/>
                </a:cubicBezTo>
                <a:cubicBezTo>
                  <a:pt x="607" y="0"/>
                  <a:pt x="824" y="40"/>
                  <a:pt x="912" y="24"/>
                </a:cubicBezTo>
                <a:cubicBezTo>
                  <a:pt x="1000" y="8"/>
                  <a:pt x="1004" y="16"/>
                  <a:pt x="1008" y="24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21760" y="218592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% corrrect (adult)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2882880"/>
            <a:ext cx="1942920" cy="2070000"/>
          </a:xfrm>
          <a:custGeom>
            <a:avLst/>
            <a:gdLst/>
            <a:ahLst/>
            <a:rect l="l" t="t" r="r" b="b"/>
            <a:pathLst>
              <a:path w="1224" h="1304">
                <a:moveTo>
                  <a:pt x="0" y="1304"/>
                </a:moveTo>
                <a:cubicBezTo>
                  <a:pt x="32" y="1076"/>
                  <a:pt x="64" y="848"/>
                  <a:pt x="96" y="680"/>
                </a:cubicBezTo>
                <a:cubicBezTo>
                  <a:pt x="128" y="512"/>
                  <a:pt x="80" y="399"/>
                  <a:pt x="192" y="296"/>
                </a:cubicBezTo>
                <a:cubicBezTo>
                  <a:pt x="303" y="192"/>
                  <a:pt x="608" y="103"/>
                  <a:pt x="768" y="56"/>
                </a:cubicBezTo>
                <a:cubicBezTo>
                  <a:pt x="927" y="8"/>
                  <a:pt x="1080" y="16"/>
                  <a:pt x="1152" y="8"/>
                </a:cubicBezTo>
                <a:cubicBezTo>
                  <a:pt x="1224" y="0"/>
                  <a:pt x="1212" y="4"/>
                  <a:pt x="1200" y="8"/>
                </a:cubicBezTo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69120" y="553896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rapid time co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language identification gam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she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a baa black she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a black she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a baa baa baa black she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fac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body don’t like 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her: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, say “Nobody likes me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body don’t like 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, say “Nobody likes me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body don’t like 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, say “Nobody likes me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body don’t like 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dialogue repeated five more times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listen carefully, say  “Nobody likes me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h! Nobody don’t likeS 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cNeill, 196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rown &amp; Hanlon, 197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ents correct for meaning, not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present, correction was not picked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problem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hild makes an err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ult may correct or identify the err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the child ignores these corre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how does the child learn to stop making the erro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t kids do recover (well, almost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-shaped curv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t - goed - w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ld must stop say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e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squeez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 the library the book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vergeneraliz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09480" y="1368360"/>
            <a:ext cx="80010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vs. negative evid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56840" y="1523880"/>
            <a:ext cx="75538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examp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tteran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edback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says “went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says “goed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 says “went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&amp; Negative examp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tteran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edback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says “went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says “goed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 says “went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 says “goed”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Twain te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ents spend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&amp; negative exampl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62320"/>
            <a:ext cx="6324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 want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grammati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nt more mil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grammati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milk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grammati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gramma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rast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 want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ant more?  More wh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nt more mil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ant more mil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milk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e, honey, I’ll get you som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.  Child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the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, don’t cry, daddy is getting you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rmalize this game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mily of target languages (grammars) </a:t>
            </a:r>
            <a:r>
              <a:rPr b="0" lang="en-US" sz="2800" spc="-1" strike="noStrike">
                <a:solidFill>
                  <a:srgbClr val="000000"/>
                </a:solidFill>
                <a:latin typeface="Coronet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xample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earning algorithm, </a:t>
            </a:r>
            <a:r>
              <a:rPr b="0" lang="en-US" sz="2800" spc="-1" strike="noStrike">
                <a:solidFill>
                  <a:srgbClr val="000000"/>
                </a:solidFill>
                <a:latin typeface="Corone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tion of learnability (convergence to the target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n the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Gold’s theorem (1967): If a family of languages contains all the finite languages and at least one infinite language, then it is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Tahoma"/>
              </a:rPr>
              <a:t>not learnable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 in the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old’s result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class of finite-state automata, class of Kimmo systems, class of cfg’s, class of feature-based cfgs, class of GPSGs, transformational grammars,…  NOT learnable from positive-only evi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oesn’t mat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at algorithm you use – the result is based o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pp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not an algorithmic limitation (Use EM, whatever you want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ramework for learn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0d33f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00"/>
                </a:solidFill>
                <a:uFillTx/>
                <a:latin typeface="Tahoma"/>
              </a:rPr>
              <a:t>Target Languag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16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ronet"/>
              </a:rPr>
              <a:t>L 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s a target language drawn from a class of possible target languages </a:t>
            </a:r>
            <a:r>
              <a:rPr b="1" lang="en-US" sz="2600" spc="-1" strike="noStrike">
                <a:solidFill>
                  <a:srgbClr val="000000"/>
                </a:solidFill>
                <a:latin typeface="Coronet"/>
              </a:rPr>
              <a:t>L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0d33f1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00"/>
                </a:solidFill>
                <a:uFillTx/>
                <a:latin typeface="Tahoma"/>
              </a:rPr>
              <a:t>Example sentenc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n-US" sz="2600" spc="-1" strike="noStrike" baseline="-16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16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re drawn from the target language &amp; presented to learne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0d33f1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00"/>
                </a:solidFill>
                <a:uFillTx/>
                <a:latin typeface="Tahoma"/>
              </a:rPr>
              <a:t>Hypothesis Language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Coronet"/>
              </a:rPr>
              <a:t>H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rawn from a class of possible hypothesis languages that child learners construct on the basis of exposure to the example sentences in the environ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0d33f1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00"/>
                </a:solidFill>
                <a:uFillTx/>
                <a:latin typeface="Tahoma"/>
              </a:rPr>
              <a:t>Learning algorithm </a:t>
            </a:r>
            <a:r>
              <a:rPr b="1" lang="en-US" sz="2600" spc="-1" strike="noStrike">
                <a:solidFill>
                  <a:srgbClr val="000000"/>
                </a:solidFill>
                <a:latin typeface="Coronet"/>
              </a:rPr>
              <a:t>A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s a computable procedure by which languages from </a:t>
            </a:r>
            <a:r>
              <a:rPr b="1" lang="en-US" sz="2600" spc="-1" strike="noStrike">
                <a:solidFill>
                  <a:srgbClr val="000000"/>
                </a:solidFill>
                <a:latin typeface="Coronet"/>
              </a:rPr>
              <a:t>H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re selected given the examp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e detail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/grammars – alphab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sent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of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: Assume drawn from probability distribution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elative frequency of various kinds of sentences) – eg, hear shorter sentences more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200" spc="-1" strike="noStrike" baseline="-16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16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n the presentation consists of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positive exampl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.w.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in bo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200" spc="-1" strike="noStrike" baseline="-16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200" spc="-1" strike="noStrike" baseline="-16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negative exampl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.e., all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“informant presentation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arning algorithms &amp; tex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d33f1"/>
              </a:buClr>
              <a:buFont typeface="Coron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onet"/>
              </a:rPr>
              <a:t>A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mapping from set of all finite data streams to hypotheses in </a:t>
            </a:r>
            <a:r>
              <a:rPr b="1" lang="en-US" sz="2200" spc="-1" strike="noStrike">
                <a:solidFill>
                  <a:srgbClr val="000000"/>
                </a:solidFill>
                <a:latin typeface="Coronet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ite data stream of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amples (s</a:t>
            </a:r>
            <a:r>
              <a:rPr b="0" lang="en-US" sz="2200" spc="-1" strike="noStrike" baseline="-12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200" spc="-1" strike="noStrike" baseline="-12000">
                <a:solidFill>
                  <a:srgbClr val="000000"/>
                </a:solidFill>
                <a:latin typeface="Tahoma"/>
              </a:rPr>
              <a:t>2 ,…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 baseline="-12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 of all data streams of lengt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 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ronet"/>
              </a:rPr>
              <a:t>D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(s</a:t>
            </a:r>
            <a:r>
              <a:rPr b="0" lang="en-US" sz="2200" spc="-1" strike="noStrike" baseline="-12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200" spc="-1" strike="noStrike" baseline="-12000">
                <a:solidFill>
                  <a:srgbClr val="000000"/>
                </a:solidFill>
                <a:latin typeface="Times New Roman"/>
              </a:rPr>
              <a:t>2 ,…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12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2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12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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 of all finite data sequences </a:t>
            </a:r>
            <a:r>
              <a:rPr b="1" lang="en-US" sz="2200" spc="-1" strike="noStrike">
                <a:solidFill>
                  <a:srgbClr val="000000"/>
                </a:solidFill>
                <a:latin typeface="Coronet"/>
              </a:rPr>
              <a:t>D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k&gt;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000000"/>
                </a:solidFill>
                <a:latin typeface="Coronet"/>
              </a:rPr>
              <a:t>D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enumerable), s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onet"/>
              </a:rPr>
              <a:t>A : 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000" spc="-1" strike="noStrike">
                <a:solidFill>
                  <a:srgbClr val="000000"/>
                </a:solidFill>
                <a:latin typeface="Coronet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Can consider </a:t>
            </a:r>
            <a:r>
              <a:rPr b="1" lang="en-US" sz="2000" spc="-1" strike="noStrike">
                <a:solidFill>
                  <a:srgbClr val="000000"/>
                </a:solidFill>
                <a:latin typeface="Coronet"/>
              </a:rPr>
              <a:t>A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flip coins if need b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learning by enumeration: The sequence of hypotheses after each sentenc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, …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othesis af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entences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riterion of success; Learn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meas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arget gramm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any hypothesized gramm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abilit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es that this distance goes to 0 as # of sentences n goes to infinity (“convergence in the limit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a family of languages </a:t>
            </a:r>
            <a:r>
              <a:rPr b="0" lang="en-US" sz="2800" spc="-1" strike="noStrike">
                <a:solidFill>
                  <a:srgbClr val="000000"/>
                </a:solidFill>
                <a:latin typeface="Coronet"/>
              </a:rPr>
              <a:t>L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learnable if each me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2800" spc="-1" strike="noStrike">
                <a:solidFill>
                  <a:srgbClr val="000000"/>
                </a:solidFill>
                <a:latin typeface="Coronet"/>
              </a:rPr>
              <a:t>L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lear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framework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general – any linguistic setting; any learning procedure (EM, gradient descent,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nerality of this sett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d33f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</a:t>
            </a:r>
            <a:r>
              <a:rPr b="0" lang="en-US" sz="32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rom (1) above 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orm, meaning)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d33f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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0,1]  real number representing grammaticality; this is generalization of 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d33f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obability distribu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usual sense in statistical applications (M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obability distribu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can we do with thi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general approa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ctive inference (classical – Gold theor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abilistic – approximate learning (VC dimension &amp; “PAC” learn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get same result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eresting families of languag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earnable from positive-only data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ven under all the variations given previously): Fsa’s, Hmm’s, CFGs,…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priori restrictions on class </a:t>
            </a:r>
            <a:r>
              <a:rPr b="1" lang="en-US" sz="2800" spc="-1" strike="noStrike">
                <a:solidFill>
                  <a:srgbClr val="000000"/>
                </a:solidFill>
                <a:latin typeface="Coronet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qui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Universal Gramm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Logical problem of language acquisi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65600" y="1676520"/>
            <a:ext cx="2730600" cy="4089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1295280"/>
            <a:ext cx="1346040" cy="11937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1680" y="1371600"/>
            <a:ext cx="1323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10360" y="2527200"/>
            <a:ext cx="0" cy="584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2949480"/>
            <a:ext cx="2574360" cy="911880"/>
            <a:chOff x="5943600" y="2949480"/>
            <a:chExt cx="2574360" cy="911880"/>
          </a:xfrm>
        </p:grpSpPr>
        <p:sp>
          <p:nvSpPr>
            <p:cNvPr id="96" name=""/>
            <p:cNvSpPr/>
            <p:nvPr/>
          </p:nvSpPr>
          <p:spPr>
            <a:xfrm>
              <a:off x="5943600" y="3733920"/>
              <a:ext cx="140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4360" y="2949480"/>
              <a:ext cx="1173600" cy="911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rrect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rg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568880" y="1371600"/>
            <a:ext cx="2424960" cy="1442520"/>
            <a:chOff x="1568880" y="1371600"/>
            <a:chExt cx="2424960" cy="1442520"/>
          </a:xfrm>
        </p:grpSpPr>
        <p:sp>
          <p:nvSpPr>
            <p:cNvPr id="99" name=""/>
            <p:cNvSpPr/>
            <p:nvPr/>
          </p:nvSpPr>
          <p:spPr>
            <a:xfrm>
              <a:off x="2514600" y="1371600"/>
              <a:ext cx="67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o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68880" y="1760400"/>
              <a:ext cx="2424960" cy="105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09480" y="1828800"/>
            <a:ext cx="2971800" cy="3657600"/>
            <a:chOff x="609480" y="1828800"/>
            <a:chExt cx="2971800" cy="3657600"/>
          </a:xfrm>
        </p:grpSpPr>
        <p:sp>
          <p:nvSpPr>
            <p:cNvPr id="102" name=""/>
            <p:cNvSpPr/>
            <p:nvPr/>
          </p:nvSpPr>
          <p:spPr>
            <a:xfrm>
              <a:off x="609480" y="1828800"/>
              <a:ext cx="2971800" cy="3657600"/>
            </a:xfrm>
            <a:prstGeom prst="ellipse">
              <a:avLst/>
            </a:prstGeom>
            <a:noFill/>
            <a:ln w="57240">
              <a:solidFill>
                <a:srgbClr val="0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80280" y="4343400"/>
              <a:ext cx="22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e00"/>
                  </a:solidFill>
                  <a:latin typeface="Tahoma"/>
                </a:rPr>
                <a:t>All Poss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e00"/>
                  </a:solidFill>
                  <a:latin typeface="Tahoma"/>
                </a:rPr>
                <a:t>Human langu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971800" y="3102120"/>
            <a:ext cx="2717640" cy="363240"/>
            <a:chOff x="2971800" y="3102120"/>
            <a:chExt cx="2717640" cy="363240"/>
          </a:xfrm>
        </p:grpSpPr>
        <p:sp>
          <p:nvSpPr>
            <p:cNvPr id="105" name=""/>
            <p:cNvSpPr/>
            <p:nvPr/>
          </p:nvSpPr>
          <p:spPr>
            <a:xfrm>
              <a:off x="3962520" y="3352680"/>
              <a:ext cx="17269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47080" y="3102120"/>
              <a:ext cx="1252800" cy="363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pu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71800" y="3276720"/>
              <a:ext cx="533520" cy="0"/>
            </a:xfrm>
            <a:prstGeom prst="line">
              <a:avLst/>
            </a:prstGeom>
            <a:ln w="316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447920" y="2514600"/>
            <a:ext cx="1557360" cy="1752480"/>
            <a:chOff x="1447920" y="2514600"/>
            <a:chExt cx="1557360" cy="1752480"/>
          </a:xfrm>
        </p:grpSpPr>
        <p:sp>
          <p:nvSpPr>
            <p:cNvPr id="109" name=""/>
            <p:cNvSpPr/>
            <p:nvPr/>
          </p:nvSpPr>
          <p:spPr>
            <a:xfrm>
              <a:off x="1828800" y="2895480"/>
              <a:ext cx="10576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7920" y="2514600"/>
              <a:ext cx="1557360" cy="1752480"/>
            </a:xfrm>
            <a:prstGeom prst="ellipse">
              <a:avLst/>
            </a:prstGeom>
            <a:noFill/>
            <a:ln w="316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971800" y="3124080"/>
            <a:ext cx="2717640" cy="363240"/>
            <a:chOff x="2971800" y="3124080"/>
            <a:chExt cx="2717640" cy="363240"/>
          </a:xfrm>
        </p:grpSpPr>
        <p:sp>
          <p:nvSpPr>
            <p:cNvPr id="112" name=""/>
            <p:cNvSpPr/>
            <p:nvPr/>
          </p:nvSpPr>
          <p:spPr>
            <a:xfrm>
              <a:off x="3962520" y="3374640"/>
              <a:ext cx="17269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47080" y="3124080"/>
              <a:ext cx="1252800" cy="363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pu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1800" y="3298680"/>
              <a:ext cx="533520" cy="0"/>
            </a:xfrm>
            <a:prstGeom prst="line">
              <a:avLst/>
            </a:prstGeom>
            <a:ln w="316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971800" y="3124080"/>
            <a:ext cx="2717640" cy="363240"/>
            <a:chOff x="2971800" y="3124080"/>
            <a:chExt cx="2717640" cy="363240"/>
          </a:xfrm>
        </p:grpSpPr>
        <p:sp>
          <p:nvSpPr>
            <p:cNvPr id="116" name=""/>
            <p:cNvSpPr/>
            <p:nvPr/>
          </p:nvSpPr>
          <p:spPr>
            <a:xfrm>
              <a:off x="3962520" y="3374640"/>
              <a:ext cx="17269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47080" y="3124080"/>
              <a:ext cx="1252800" cy="363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pu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1800" y="3298680"/>
              <a:ext cx="533520" cy="0"/>
            </a:xfrm>
            <a:prstGeom prst="line">
              <a:avLst/>
            </a:prstGeom>
            <a:ln w="316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971800" y="3124080"/>
            <a:ext cx="2717640" cy="363240"/>
            <a:chOff x="2971800" y="3124080"/>
            <a:chExt cx="2717640" cy="363240"/>
          </a:xfrm>
        </p:grpSpPr>
        <p:sp>
          <p:nvSpPr>
            <p:cNvPr id="120" name=""/>
            <p:cNvSpPr/>
            <p:nvPr/>
          </p:nvSpPr>
          <p:spPr>
            <a:xfrm>
              <a:off x="3962520" y="3374640"/>
              <a:ext cx="17269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47080" y="3124080"/>
              <a:ext cx="1252800" cy="363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pu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3298680"/>
              <a:ext cx="533520" cy="0"/>
            </a:xfrm>
            <a:prstGeom prst="line">
              <a:avLst/>
            </a:prstGeom>
            <a:ln w="316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 short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ate = ‘before data’ (data = information used to learn the language, so, examples + algorithm used, or even modify the acquisition algorith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 from Learning theory: Restricted search space must exist (even if you use semantics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 other 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search for ‘underlying rules’ – even if unlimited time,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 question: what is </a:t>
            </a:r>
            <a:r>
              <a:rPr b="0" lang="en-US" sz="2800" spc="-1" strike="noStrike">
                <a:solidFill>
                  <a:srgbClr val="000000"/>
                </a:solidFill>
                <a:latin typeface="Coronet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 Is it domain specific, or a general metho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inductive inference approa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Gold’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theore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cation in the lim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old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&amp; implications &amp; for natural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must restrict the class of grammars/languages the learner chooses from, severe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D in the limit - df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langu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n infinite sequence of sentenc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each sente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ccurring at least once (“fair presentation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14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enc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Learnability: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learnable by algorithm </a:t>
            </a:r>
            <a:r>
              <a:rPr b="1" lang="en-US" sz="2400" spc="-1" strike="noStrike">
                <a:solidFill>
                  <a:srgbClr val="000000"/>
                </a:solidFill>
                <a:latin typeface="Coronet"/>
              </a:rPr>
              <a:t>A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re exists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t.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&gt;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ronet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14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ormally, fix distance metri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arget gramma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14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a tex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target language. Learning algorithm </a:t>
            </a:r>
            <a:r>
              <a:rPr b="1" lang="en-US" sz="2400" spc="-1" strike="noStrike">
                <a:solidFill>
                  <a:srgbClr val="000000"/>
                </a:solidFill>
                <a:latin typeface="Coronet"/>
              </a:rPr>
              <a:t>A 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identifies (learns)  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g</a:t>
            </a:r>
            <a:r>
              <a:rPr b="0" i="1" lang="en-US" sz="2400" spc="-1" strike="noStrike" u="sng" baseline="-14000">
                <a:solidFill>
                  <a:srgbClr val="ff3300"/>
                </a:solidFill>
                <a:uFillTx/>
                <a:latin typeface="Times New Roman"/>
              </a:rPr>
              <a:t>t 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in the lim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ronet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14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400" spc="-1" strike="noStrike" baseline="-18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18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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rnability &amp; “locking sequence/data set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3489480" y="2952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sphere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3233880" cy="32338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583080" y="3657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038480" y="3733560"/>
            <a:ext cx="914400" cy="228600"/>
          </a:xfrm>
          <a:prstGeom prst="line">
            <a:avLst/>
          </a:prstGeom>
          <a:ln w="31680">
            <a:solidFill>
              <a:srgbClr val="fc012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89360" y="4343400"/>
            <a:ext cx="96840" cy="1066680"/>
          </a:xfrm>
          <a:prstGeom prst="line">
            <a:avLst/>
          </a:prstGeom>
          <a:ln w="31680">
            <a:solidFill>
              <a:srgbClr val="fc012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2440" y="3733920"/>
            <a:ext cx="329724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Ball of radius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Locking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f (finite) sequenc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3300"/>
                </a:solidFill>
                <a:latin typeface="Symbol"/>
                <a:ea typeface="Symbol"/>
              </a:rPr>
              <a:t>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gets within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of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&amp; then it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stay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4000" y="335268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12760" y="426708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5334120"/>
            <a:ext cx="152640" cy="15228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6000" y="3098880"/>
            <a:ext cx="4356000" cy="2933640"/>
          </a:xfrm>
          <a:custGeom>
            <a:avLst/>
            <a:gdLst/>
            <a:ahLst/>
            <a:rect l="l" t="t" r="r" b="b"/>
            <a:pathLst>
              <a:path w="2744" h="1848">
                <a:moveTo>
                  <a:pt x="56" y="1504"/>
                </a:moveTo>
                <a:cubicBezTo>
                  <a:pt x="28" y="1520"/>
                  <a:pt x="0" y="1536"/>
                  <a:pt x="104" y="1504"/>
                </a:cubicBezTo>
                <a:cubicBezTo>
                  <a:pt x="208" y="1472"/>
                  <a:pt x="648" y="1408"/>
                  <a:pt x="680" y="1312"/>
                </a:cubicBezTo>
                <a:cubicBezTo>
                  <a:pt x="712" y="1216"/>
                  <a:pt x="248" y="936"/>
                  <a:pt x="296" y="928"/>
                </a:cubicBezTo>
                <a:cubicBezTo>
                  <a:pt x="344" y="920"/>
                  <a:pt x="840" y="1120"/>
                  <a:pt x="968" y="1264"/>
                </a:cubicBezTo>
                <a:cubicBezTo>
                  <a:pt x="1096" y="1408"/>
                  <a:pt x="984" y="1736"/>
                  <a:pt x="1064" y="1792"/>
                </a:cubicBezTo>
                <a:cubicBezTo>
                  <a:pt x="1144" y="1848"/>
                  <a:pt x="1384" y="1672"/>
                  <a:pt x="1448" y="1600"/>
                </a:cubicBezTo>
                <a:cubicBezTo>
                  <a:pt x="1512" y="1528"/>
                  <a:pt x="1440" y="1536"/>
                  <a:pt x="1448" y="1360"/>
                </a:cubicBezTo>
                <a:cubicBezTo>
                  <a:pt x="1456" y="1184"/>
                  <a:pt x="1408" y="632"/>
                  <a:pt x="1496" y="544"/>
                </a:cubicBezTo>
                <a:cubicBezTo>
                  <a:pt x="1584" y="456"/>
                  <a:pt x="1896" y="832"/>
                  <a:pt x="1976" y="832"/>
                </a:cubicBezTo>
                <a:cubicBezTo>
                  <a:pt x="2056" y="832"/>
                  <a:pt x="1944" y="632"/>
                  <a:pt x="1976" y="544"/>
                </a:cubicBezTo>
                <a:cubicBezTo>
                  <a:pt x="2008" y="456"/>
                  <a:pt x="2208" y="360"/>
                  <a:pt x="2168" y="304"/>
                </a:cubicBezTo>
                <a:cubicBezTo>
                  <a:pt x="2128" y="248"/>
                  <a:pt x="1720" y="256"/>
                  <a:pt x="1736" y="208"/>
                </a:cubicBezTo>
                <a:cubicBezTo>
                  <a:pt x="1752" y="160"/>
                  <a:pt x="2144" y="32"/>
                  <a:pt x="2264" y="16"/>
                </a:cubicBezTo>
                <a:cubicBezTo>
                  <a:pt x="2384" y="0"/>
                  <a:pt x="2400" y="104"/>
                  <a:pt x="2456" y="112"/>
                </a:cubicBezTo>
                <a:cubicBezTo>
                  <a:pt x="2512" y="120"/>
                  <a:pt x="2592" y="32"/>
                  <a:pt x="2600" y="64"/>
                </a:cubicBezTo>
                <a:cubicBezTo>
                  <a:pt x="2608" y="96"/>
                  <a:pt x="2480" y="296"/>
                  <a:pt x="2504" y="304"/>
                </a:cubicBezTo>
                <a:cubicBezTo>
                  <a:pt x="2528" y="312"/>
                  <a:pt x="2636" y="212"/>
                  <a:pt x="2744" y="112"/>
                </a:cubicBezTo>
              </a:path>
            </a:pathLst>
          </a:custGeom>
          <a:noFill/>
          <a:ln w="41400">
            <a:solidFill>
              <a:srgbClr val="fc012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666880"/>
            <a:ext cx="0" cy="3810240"/>
          </a:xfrm>
          <a:prstGeom prst="line">
            <a:avLst/>
          </a:prstGeom>
          <a:ln w="7632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84120" y="3505320"/>
            <a:ext cx="430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3300"/>
                </a:solidFill>
                <a:latin typeface="Symbol"/>
                <a:ea typeface="Symbol"/>
              </a:rPr>
              <a:t>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3733920"/>
            <a:ext cx="838080" cy="0"/>
          </a:xfrm>
          <a:prstGeom prst="line">
            <a:avLst/>
          </a:prstGeom>
          <a:ln cap="rnd" w="31680">
            <a:solidFill>
              <a:srgbClr val="fc012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51920" y="3733920"/>
            <a:ext cx="1143000" cy="0"/>
          </a:xfrm>
          <a:prstGeom prst="line">
            <a:avLst/>
          </a:prstGeom>
          <a:ln w="3168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lation between this &amp; learnability in limit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m 1 (Blum &amp; Blum, 1975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version) If </a:t>
            </a:r>
            <a:r>
              <a:rPr b="1" lang="en-US" sz="3200" spc="-1" strike="noStrike">
                <a:solidFill>
                  <a:srgbClr val="000000"/>
                </a:solidFill>
                <a:latin typeface="Coronet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dentif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the limit, then for every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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exists a locking data set that comes with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the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lation between this &amp; learnability in limit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m 1 (Blum &amp; Blum, 1975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version) If </a:t>
            </a:r>
            <a:r>
              <a:rPr b="1" lang="en-US" sz="3200" spc="-1" strike="noStrike">
                <a:solidFill>
                  <a:srgbClr val="000000"/>
                </a:solidFill>
                <a:latin typeface="Coronet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dentif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the limit, then for every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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exists a locking data set that comes with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the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m 2. (s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½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f A identifies a target grammar in the limit, then there exists a locking data set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ronet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old’s thm follows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em (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Gol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1967). If the family </a:t>
            </a:r>
            <a:r>
              <a:rPr b="0" lang="en-US" sz="3200" spc="-1" strike="noStrike">
                <a:solidFill>
                  <a:srgbClr val="000000"/>
                </a:solidFill>
                <a:latin typeface="Coronet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sists of all the finite languages and at least 1 infinite language, then it is not learnable in the lim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ollary: The class of fsa’s, cfg’s, csg’s,… are not learnable in the lim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of by contradiction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old’s th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</a:t>
            </a:r>
            <a:r>
              <a:rPr b="0" lang="en-US" sz="3200" spc="-1" strike="noStrike">
                <a:solidFill>
                  <a:srgbClr val="000000"/>
                </a:solidFill>
                <a:latin typeface="Coronet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ble to identify the family </a:t>
            </a:r>
            <a:r>
              <a:rPr b="0" lang="en-US" sz="3200" spc="-1" strike="noStrike">
                <a:solidFill>
                  <a:srgbClr val="000000"/>
                </a:solidFill>
                <a:latin typeface="Coronet"/>
              </a:rPr>
              <a:t> L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it must identify the infinite language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16000">
                <a:solidFill>
                  <a:srgbClr val="000000"/>
                </a:solidFill>
                <a:latin typeface="Times New Roman"/>
              </a:rPr>
              <a:t>in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Thm, a locking sequence exist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n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 a finite language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n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this locking sequence to get locking sequence for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nf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ifferent language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16000">
                <a:solidFill>
                  <a:srgbClr val="000000"/>
                </a:solidFill>
                <a:latin typeface="Times New Roman"/>
              </a:rPr>
              <a:t>i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Coron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onet"/>
              </a:rPr>
              <a:t>A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’t identify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nf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 contradi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ictu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968760" y="182880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perfinite L, all finite L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3886200"/>
            <a:ext cx="4267080" cy="1371600"/>
          </a:xfrm>
          <a:prstGeom prst="ellipse">
            <a:avLst/>
          </a:prstGeom>
          <a:noFill/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114800"/>
            <a:ext cx="3352680" cy="762120"/>
          </a:xfrm>
          <a:prstGeom prst="ellipse">
            <a:avLst/>
          </a:prstGeom>
          <a:noFill/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05120" y="4267080"/>
            <a:ext cx="2286000" cy="457200"/>
          </a:xfrm>
          <a:prstGeom prst="ellipse">
            <a:avLst/>
          </a:prstGeom>
          <a:noFill/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3048120"/>
            <a:ext cx="6858000" cy="312408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55080" y="2598840"/>
            <a:ext cx="19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{a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| a&gt;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3505320"/>
            <a:ext cx="5334120" cy="2133360"/>
          </a:xfrm>
          <a:prstGeom prst="ellipse">
            <a:avLst/>
          </a:prstGeom>
          <a:noFill/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t what about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houldn’t requi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xa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dentificati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: OK, we can us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on, or, statistical learning theory to show that if we require convergence with high probability, then the same results hold (see a bit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se languag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init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: naw, the Gold result is really about information density, not infinite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ta, indu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fin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this possible, given limited time &amp; compu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ldren are not told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: put constraints on class of possible grammars (or languag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ut what about… (more old whine in new bottle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should you be able to learn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qu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: OK, use the “Probably approximately correct” (PAC) approach – learn target with high probability, to within epsilon, on 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 now not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ata sequence, but still with probability 1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16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i="1" lang="en-US" sz="28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random variable, and you wa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ea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vergence of random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this is also convergence in the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ochastic extensions/Gold complaints &amp; positive resul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handle statistical case – rules are stochastic – so the ‘text’ the learner gets is stochastic (some distribution spits it out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know how language is generated then  it helps you learn what language is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of sentence from guess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like negative evidence: although approximate, can be used to reject guess (“indirect negative evidence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sults for stochastic cas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evidence: really nee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text (enough sampling over negative examples s.t. child can really know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don’t know the distribution – you lose – estimating a density function is ev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a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n approximating function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ery stro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aints on distribution functions to be drawn from the language family, then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arn fsa’s, cfg’s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onstraint is that the learner knows a function d, s.t. after seeing at least d(n) examples, learner knows what membership of each example sentence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quence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inite language cas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 doesn’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al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pend on some subtle property of infinite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se finite languages. Then Gold framework – learner identifies languag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moriz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- only after hearing all the examples of th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ossibility of generalization; no extrapolation – not the case for natur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mple exampl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mple finite cas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et of finite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sentences, s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, s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3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8 possible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se learner A considers all 8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B considers only 2 languages:             L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{s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1 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L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{s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receives sentence s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n A has no information whether s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s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be part of target or not – only can tell this after hear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sent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 receives s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B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kn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s</a:t>
            </a:r>
            <a:r>
              <a:rPr b="0" lang="en-US" sz="2800" spc="-1" strike="noStrike" baseline="-16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ll be part of the target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xtrapol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yond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pac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quir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genera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many examples needed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ld (again): even if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kn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# of states in an fsa, this is NP-h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trictions on class of fsa’s make this poly-time (Angluin; Pilato &amp; Berwic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fsa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ackwards determinist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xample inferred fsa (NP specifiers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spec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7372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K smarty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an you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class of a priori languages finite, and smal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2905200" y="2276640"/>
            <a:ext cx="988920" cy="13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05200" y="3656160"/>
            <a:ext cx="658800" cy="22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17800" y="3643200"/>
            <a:ext cx="633600" cy="83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38440" y="5899320"/>
            <a:ext cx="722520" cy="34128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13240" y="4441680"/>
            <a:ext cx="658800" cy="35424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1080" y="1971720"/>
            <a:ext cx="582480" cy="355680"/>
          </a:xfrm>
          <a:prstGeom prst="rect">
            <a:avLst/>
          </a:prstGeom>
          <a:solidFill>
            <a:srgbClr val="84e0a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51400" y="3251160"/>
            <a:ext cx="582480" cy="35388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670920" y="3268800"/>
            <a:ext cx="507600" cy="366120"/>
            <a:chOff x="3670920" y="3268800"/>
            <a:chExt cx="507600" cy="366120"/>
          </a:xfrm>
        </p:grpSpPr>
        <p:sp>
          <p:nvSpPr>
            <p:cNvPr id="324" name=""/>
            <p:cNvSpPr/>
            <p:nvPr/>
          </p:nvSpPr>
          <p:spPr>
            <a:xfrm>
              <a:off x="3670920" y="326880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89000" y="32688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40920" y="326880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25520" y="32688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910680" y="2001960"/>
            <a:ext cx="221040" cy="366120"/>
            <a:chOff x="3910680" y="2001960"/>
            <a:chExt cx="221040" cy="366120"/>
          </a:xfrm>
        </p:grpSpPr>
        <p:sp>
          <p:nvSpPr>
            <p:cNvPr id="329" name=""/>
            <p:cNvSpPr/>
            <p:nvPr/>
          </p:nvSpPr>
          <p:spPr>
            <a:xfrm>
              <a:off x="3910680" y="20019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45680" y="200196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646080" y="5891040"/>
            <a:ext cx="675360" cy="366120"/>
            <a:chOff x="3646080" y="5891040"/>
            <a:chExt cx="675360" cy="366120"/>
          </a:xfrm>
        </p:grpSpPr>
        <p:sp>
          <p:nvSpPr>
            <p:cNvPr id="332" name=""/>
            <p:cNvSpPr/>
            <p:nvPr/>
          </p:nvSpPr>
          <p:spPr>
            <a:xfrm>
              <a:off x="3646080" y="5891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95840" y="58910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98080" y="58910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33080" y="58910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68440" y="5891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607200" y="4471920"/>
            <a:ext cx="642600" cy="366120"/>
            <a:chOff x="3607200" y="4471920"/>
            <a:chExt cx="642600" cy="366120"/>
          </a:xfrm>
        </p:grpSpPr>
        <p:sp>
          <p:nvSpPr>
            <p:cNvPr id="338" name=""/>
            <p:cNvSpPr/>
            <p:nvPr/>
          </p:nvSpPr>
          <p:spPr>
            <a:xfrm>
              <a:off x="3607200" y="44719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920" y="44719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09520" y="4471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61440" y="44719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96800" y="4471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228920" y="1457280"/>
            <a:ext cx="2458440" cy="366120"/>
            <a:chOff x="4228920" y="1457280"/>
            <a:chExt cx="2458440" cy="366120"/>
          </a:xfrm>
        </p:grpSpPr>
        <p:sp>
          <p:nvSpPr>
            <p:cNvPr id="344" name=""/>
            <p:cNvSpPr/>
            <p:nvPr/>
          </p:nvSpPr>
          <p:spPr>
            <a:xfrm>
              <a:off x="4228920" y="145728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80840" y="1457280"/>
              <a:ext cx="10296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80920" y="145728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16280" y="145728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68560" y="145728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21200" y="1457280"/>
              <a:ext cx="11952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37840" y="1457280"/>
              <a:ext cx="860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23520" y="1457280"/>
              <a:ext cx="860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07760" y="1457280"/>
              <a:ext cx="860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92360" y="145728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45000" y="145728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96920" y="145728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31560" y="1457280"/>
              <a:ext cx="860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16160" y="1457280"/>
              <a:ext cx="770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92480" y="145728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45120" y="145728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97040" y="1457280"/>
              <a:ext cx="10296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96760" y="145728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32480" y="1457280"/>
              <a:ext cx="11952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0920" y="145728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545800" y="2027160"/>
            <a:ext cx="1808280" cy="366120"/>
            <a:chOff x="5545800" y="2027160"/>
            <a:chExt cx="1808280" cy="366120"/>
          </a:xfrm>
        </p:grpSpPr>
        <p:sp>
          <p:nvSpPr>
            <p:cNvPr id="365" name=""/>
            <p:cNvSpPr/>
            <p:nvPr/>
          </p:nvSpPr>
          <p:spPr>
            <a:xfrm>
              <a:off x="5545800" y="20271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81160" y="202716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57480" y="2027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09400" y="20271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43680" y="20271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46280" y="2027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96760" y="20271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31760" y="202716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17800" y="2027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0080" y="202716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44960" y="2027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96160" y="20271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98400" y="202716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82640" y="20271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17640" y="20271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671720" y="2584440"/>
            <a:ext cx="1410840" cy="366120"/>
            <a:chOff x="4671720" y="2584440"/>
            <a:chExt cx="1410840" cy="366120"/>
          </a:xfrm>
        </p:grpSpPr>
        <p:sp>
          <p:nvSpPr>
            <p:cNvPr id="381" name=""/>
            <p:cNvSpPr/>
            <p:nvPr/>
          </p:nvSpPr>
          <p:spPr>
            <a:xfrm>
              <a:off x="4671720" y="2584440"/>
              <a:ext cx="15300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23640" y="2584440"/>
              <a:ext cx="1364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58640" y="2584440"/>
              <a:ext cx="10296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0880" y="2584440"/>
              <a:ext cx="15300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13160" y="2584440"/>
              <a:ext cx="770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87680" y="2584440"/>
              <a:ext cx="15300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39960" y="2584440"/>
              <a:ext cx="15300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92240" y="2584440"/>
              <a:ext cx="10296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93760" y="2584440"/>
              <a:ext cx="1364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29120" y="2584440"/>
              <a:ext cx="11952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6120" y="2584440"/>
              <a:ext cx="1364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571000" y="3268800"/>
            <a:ext cx="1091880" cy="366120"/>
            <a:chOff x="5571000" y="3268800"/>
            <a:chExt cx="1091880" cy="366120"/>
          </a:xfrm>
        </p:grpSpPr>
        <p:sp>
          <p:nvSpPr>
            <p:cNvPr id="393" name=""/>
            <p:cNvSpPr/>
            <p:nvPr/>
          </p:nvSpPr>
          <p:spPr>
            <a:xfrm>
              <a:off x="5571000" y="326880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55960" y="32688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07880" y="326880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42880" y="32688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8840" y="326880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38000" y="326880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22600" y="32688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74520" y="326880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09880" y="32688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291920" y="5295960"/>
            <a:ext cx="1968480" cy="366120"/>
            <a:chOff x="4291920" y="5295960"/>
            <a:chExt cx="1968480" cy="366120"/>
          </a:xfrm>
        </p:grpSpPr>
        <p:sp>
          <p:nvSpPr>
            <p:cNvPr id="403" name=""/>
            <p:cNvSpPr/>
            <p:nvPr/>
          </p:nvSpPr>
          <p:spPr>
            <a:xfrm>
              <a:off x="4291920" y="529596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27280" y="529596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9200" y="5295960"/>
              <a:ext cx="860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63440" y="529596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98440" y="529596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33080" y="5295960"/>
              <a:ext cx="860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17320" y="5295960"/>
              <a:ext cx="860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01920" y="529596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53840" y="529596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89200" y="5295960"/>
              <a:ext cx="770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65520" y="529596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17800" y="529596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70080" y="5295960"/>
              <a:ext cx="10296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69800" y="529596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05520" y="5295960"/>
              <a:ext cx="11952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23960" y="529596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546160" y="5904000"/>
            <a:ext cx="1208880" cy="366120"/>
            <a:chOff x="5546160" y="5904000"/>
            <a:chExt cx="1208880" cy="366120"/>
          </a:xfrm>
        </p:grpSpPr>
        <p:sp>
          <p:nvSpPr>
            <p:cNvPr id="420" name=""/>
            <p:cNvSpPr/>
            <p:nvPr/>
          </p:nvSpPr>
          <p:spPr>
            <a:xfrm>
              <a:off x="5546160" y="59040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64680" y="590400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50720" y="590400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35320" y="5904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87600" y="59040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63200" y="590400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98920" y="5904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49760" y="5904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02040" y="5904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506840" y="3902040"/>
            <a:ext cx="1478880" cy="366120"/>
            <a:chOff x="4506840" y="3902040"/>
            <a:chExt cx="1478880" cy="366120"/>
          </a:xfrm>
        </p:grpSpPr>
        <p:sp>
          <p:nvSpPr>
            <p:cNvPr id="430" name=""/>
            <p:cNvSpPr/>
            <p:nvPr/>
          </p:nvSpPr>
          <p:spPr>
            <a:xfrm>
              <a:off x="4506840" y="390204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59120" y="390204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11400" y="390204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64040" y="390204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16320" y="3902040"/>
              <a:ext cx="770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2640" y="390204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43120" y="3902040"/>
              <a:ext cx="15300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95400" y="3902040"/>
              <a:ext cx="10296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96920" y="390204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32280" y="3902040"/>
              <a:ext cx="11952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49280" y="3902040"/>
              <a:ext cx="136440" cy="366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622120" y="4471920"/>
            <a:ext cx="1884240" cy="366120"/>
            <a:chOff x="5622120" y="4471920"/>
            <a:chExt cx="1884240" cy="366120"/>
          </a:xfrm>
        </p:grpSpPr>
        <p:sp>
          <p:nvSpPr>
            <p:cNvPr id="442" name=""/>
            <p:cNvSpPr/>
            <p:nvPr/>
          </p:nvSpPr>
          <p:spPr>
            <a:xfrm>
              <a:off x="5622120" y="44719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56760" y="44719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41360" y="44719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17320" y="44719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52680" y="44719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28280" y="44719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13240" y="4471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65160" y="44719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84040" y="44719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18320" y="44719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20920" y="44719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97240" y="4471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48440" y="44719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50680" y="44719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4920" y="44719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69920" y="44719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498680" y="3479760"/>
            <a:ext cx="139392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91200" y="34844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27720" y="348444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64880" y="348444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15000" y="34844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85280" y="348444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61600" y="348444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47000" y="34844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31240" y="348444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65880" y="348444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84320" y="348444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917800" y="3428640"/>
            <a:ext cx="59544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059360" y="1693440"/>
            <a:ext cx="1114200" cy="2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86520" y="1693800"/>
            <a:ext cx="1090440" cy="32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3957480" y="2859120"/>
            <a:ext cx="122904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24320" y="2859120"/>
            <a:ext cx="862200" cy="41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68560" y="4162320"/>
            <a:ext cx="2294280" cy="304920"/>
          </a:xfrm>
          <a:custGeom>
            <a:avLst/>
            <a:gdLst/>
            <a:ahLst/>
            <a:rect l="l" t="t" r="r" b="b"/>
            <a:pathLst>
              <a:path w="1445" h="192">
                <a:moveTo>
                  <a:pt x="0" y="160"/>
                </a:moveTo>
                <a:lnTo>
                  <a:pt x="702" y="0"/>
                </a:lnTo>
                <a:lnTo>
                  <a:pt x="1445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970440" y="5543640"/>
            <a:ext cx="91116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69000" y="5556240"/>
            <a:ext cx="102708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3960" y="2811600"/>
            <a:ext cx="148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28520" y="5331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ethod: Changing languages by Flipping Switch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nglish is function-argument f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1243800" y="1828800"/>
            <a:ext cx="1768680" cy="581400"/>
          </a:xfrm>
          <a:prstGeom prst="rect">
            <a:avLst/>
          </a:prstGeom>
          <a:noFill/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ahoma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46800" y="3276720"/>
            <a:ext cx="5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ahoma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32720" y="1828800"/>
            <a:ext cx="1022040" cy="581400"/>
          </a:xfrm>
          <a:prstGeom prst="rect">
            <a:avLst/>
          </a:prstGeom>
          <a:noFill/>
          <a:ln w="31680">
            <a:solidFill>
              <a:srgbClr val="0d33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3f1"/>
                </a:solidFill>
                <a:latin typeface="Tahoma"/>
              </a:rPr>
              <a:t>ar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3733920"/>
            <a:ext cx="457200" cy="457200"/>
          </a:xfrm>
          <a:prstGeom prst="ellipse">
            <a:avLst/>
          </a:prstGeom>
          <a:solidFill>
            <a:srgbClr val="fc0128"/>
          </a:solidFill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35320" y="388620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ahoma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276720" y="3200400"/>
            <a:ext cx="990360" cy="57168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7080" y="3200400"/>
            <a:ext cx="1600200" cy="0"/>
          </a:xfrm>
          <a:prstGeom prst="line">
            <a:avLst/>
          </a:prstGeom>
          <a:ln w="31680">
            <a:solidFill>
              <a:srgbClr val="00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32400" y="297180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ahoma"/>
              </a:rPr>
              <a:t>s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21720" y="259092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3f1"/>
                </a:solidFill>
                <a:latin typeface="Tahoma"/>
              </a:rPr>
              <a:t>the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429000" y="3733560"/>
            <a:ext cx="914400" cy="15228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43400" y="3733920"/>
            <a:ext cx="1600200" cy="0"/>
          </a:xfrm>
          <a:prstGeom prst="line">
            <a:avLst/>
          </a:prstGeom>
          <a:ln w="31680">
            <a:solidFill>
              <a:srgbClr val="00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19720" y="4419720"/>
            <a:ext cx="1600200" cy="0"/>
          </a:xfrm>
          <a:prstGeom prst="line">
            <a:avLst/>
          </a:prstGeom>
          <a:ln w="31680">
            <a:solidFill>
              <a:srgbClr val="00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49440" y="320040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3f1"/>
                </a:solidFill>
                <a:latin typeface="Tahoma"/>
              </a:rPr>
              <a:t>a bargain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4038480"/>
            <a:ext cx="990720" cy="38124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99840" y="3886200"/>
            <a:ext cx="20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3f1"/>
                </a:solidFill>
                <a:latin typeface="Tahoma"/>
              </a:rPr>
              <a:t>with en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114800"/>
            <a:ext cx="1143000" cy="91440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029200"/>
            <a:ext cx="1600200" cy="0"/>
          </a:xfrm>
          <a:prstGeom prst="line">
            <a:avLst/>
          </a:prstGeom>
          <a:ln w="31680">
            <a:solidFill>
              <a:srgbClr val="009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45560" y="464832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ahoma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17840" y="44956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3f1"/>
                </a:solidFill>
                <a:latin typeface="Tahoma"/>
              </a:rPr>
              <a:t>over-priced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logical problem of language acquisi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stical MT: how many parameters? How much dat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’s no data like more dat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of parameters to estimate in Stat MT system -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ther languages are the mirror-inverse:  arg-fun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612440" y="2588760"/>
            <a:ext cx="5053320" cy="2638800"/>
            <a:chOff x="1612440" y="2588760"/>
            <a:chExt cx="5053320" cy="2638800"/>
          </a:xfrm>
        </p:grpSpPr>
        <p:sp>
          <p:nvSpPr>
            <p:cNvPr id="501" name=""/>
            <p:cNvSpPr/>
            <p:nvPr/>
          </p:nvSpPr>
          <p:spPr>
            <a:xfrm flipH="1" flipV="1">
              <a:off x="5195520" y="3960000"/>
              <a:ext cx="55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c0128"/>
                  </a:solidFill>
                  <a:latin typeface="Tahoma"/>
                </a:rPr>
                <a:t>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5969160" y="3627360"/>
              <a:ext cx="457200" cy="457200"/>
            </a:xfrm>
            <a:prstGeom prst="ellipse">
              <a:avLst/>
            </a:prstGeom>
            <a:solidFill>
              <a:srgbClr val="fc0128"/>
            </a:solidFill>
            <a:ln w="316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4852440" y="335052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c0128"/>
                  </a:solidFill>
                  <a:latin typeface="Tahoma"/>
                </a:rPr>
                <a:t>gre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131080" y="4046400"/>
              <a:ext cx="990360" cy="571680"/>
            </a:xfrm>
            <a:prstGeom prst="line">
              <a:avLst/>
            </a:prstGeom>
            <a:ln w="316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3530880" y="4618080"/>
              <a:ext cx="1600200" cy="0"/>
            </a:xfrm>
            <a:prstGeom prst="line">
              <a:avLst/>
            </a:prstGeom>
            <a:ln w="31680">
              <a:solidFill>
                <a:srgbClr val="0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5688000" y="426492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c0128"/>
                  </a:solidFill>
                  <a:latin typeface="Tahoma"/>
                </a:rPr>
                <a:t>sol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261240" y="4645800"/>
              <a:ext cx="19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33f1"/>
                  </a:solidFill>
                  <a:latin typeface="Tahoma"/>
                </a:rPr>
                <a:t>the st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5054760" y="3932640"/>
              <a:ext cx="914400" cy="152280"/>
            </a:xfrm>
            <a:prstGeom prst="line">
              <a:avLst/>
            </a:prstGeom>
            <a:ln w="316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454560" y="4084560"/>
              <a:ext cx="1600200" cy="0"/>
            </a:xfrm>
            <a:prstGeom prst="line">
              <a:avLst/>
            </a:prstGeom>
            <a:ln w="31680">
              <a:solidFill>
                <a:srgbClr val="0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378240" y="3398760"/>
              <a:ext cx="1600200" cy="0"/>
            </a:xfrm>
            <a:prstGeom prst="line">
              <a:avLst/>
            </a:prstGeom>
            <a:ln w="31680">
              <a:solidFill>
                <a:srgbClr val="0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2099520" y="4036320"/>
              <a:ext cx="30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33f1"/>
                  </a:solidFill>
                  <a:latin typeface="Tahoma"/>
                </a:rPr>
                <a:t>a bargain pri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4978440" y="3398760"/>
              <a:ext cx="990720" cy="381240"/>
            </a:xfrm>
            <a:prstGeom prst="line">
              <a:avLst/>
            </a:prstGeom>
            <a:ln w="316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093120" y="3350520"/>
              <a:ext cx="200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33f1"/>
                  </a:solidFill>
                  <a:latin typeface="Tahoma"/>
                </a:rPr>
                <a:t>with env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4902480" y="2789280"/>
              <a:ext cx="1143000" cy="914400"/>
            </a:xfrm>
            <a:prstGeom prst="line">
              <a:avLst/>
            </a:prstGeom>
            <a:ln w="316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302280" y="2789280"/>
              <a:ext cx="1600200" cy="0"/>
            </a:xfrm>
            <a:prstGeom prst="line">
              <a:avLst/>
            </a:prstGeom>
            <a:ln w="31680">
              <a:solidFill>
                <a:srgbClr val="0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5144040" y="2588400"/>
              <a:ext cx="80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c0128"/>
                  </a:solidFill>
                  <a:latin typeface="Tahoma"/>
                </a:rPr>
                <a:t>th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1612080" y="2741040"/>
              <a:ext cx="346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33f1"/>
                  </a:solidFill>
                  <a:latin typeface="Tahoma"/>
                </a:rPr>
                <a:t>over-priced st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750600" y="1752480"/>
            <a:ext cx="39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ahoma"/>
              </a:rPr>
              <a:t>This is like Japa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lipping Switch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2069640" y="177948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72880" y="177948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792160" y="1457280"/>
            <a:ext cx="6247800" cy="4819680"/>
            <a:chOff x="2792160" y="1457280"/>
            <a:chExt cx="6247800" cy="4819680"/>
          </a:xfrm>
        </p:grpSpPr>
        <p:sp>
          <p:nvSpPr>
            <p:cNvPr id="523" name=""/>
            <p:cNvSpPr/>
            <p:nvPr/>
          </p:nvSpPr>
          <p:spPr>
            <a:xfrm flipH="1" flipV="1">
              <a:off x="5173200" y="2338560"/>
              <a:ext cx="987480" cy="1341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503680" y="3718080"/>
              <a:ext cx="657000" cy="2268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5516280" y="3705120"/>
              <a:ext cx="631800" cy="836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32280" y="5961240"/>
              <a:ext cx="695520" cy="315720"/>
            </a:xfrm>
            <a:prstGeom prst="rect">
              <a:avLst/>
            </a:prstGeom>
            <a:solidFill>
              <a:srgbClr val="33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21200" y="4503600"/>
              <a:ext cx="631800" cy="328680"/>
            </a:xfrm>
            <a:prstGeom prst="rect">
              <a:avLst/>
            </a:prstGeom>
            <a:solidFill>
              <a:srgbClr val="33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19680" y="2033640"/>
              <a:ext cx="557280" cy="330120"/>
            </a:xfrm>
            <a:prstGeom prst="rect">
              <a:avLst/>
            </a:prstGeom>
            <a:solidFill>
              <a:srgbClr val="33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57920" y="3313080"/>
              <a:ext cx="556920" cy="328680"/>
            </a:xfrm>
            <a:prstGeom prst="rect">
              <a:avLst/>
            </a:prstGeom>
            <a:solidFill>
              <a:srgbClr val="33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5559840" y="3268800"/>
              <a:ext cx="507960" cy="366120"/>
              <a:chOff x="5559840" y="3268800"/>
              <a:chExt cx="507960" cy="366120"/>
            </a:xfrm>
          </p:grpSpPr>
          <p:sp>
            <p:nvSpPr>
              <p:cNvPr id="531" name=""/>
              <p:cNvSpPr/>
              <p:nvPr/>
            </p:nvSpPr>
            <p:spPr>
              <a:xfrm>
                <a:off x="5559840" y="3268800"/>
                <a:ext cx="119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76480" y="3268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29120" y="32688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14800" y="3268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319720" y="2001960"/>
              <a:ext cx="222480" cy="366120"/>
              <a:chOff x="5319720" y="2001960"/>
              <a:chExt cx="222480" cy="366120"/>
            </a:xfrm>
          </p:grpSpPr>
          <p:sp>
            <p:nvSpPr>
              <p:cNvPr id="536" name=""/>
              <p:cNvSpPr/>
              <p:nvPr/>
            </p:nvSpPr>
            <p:spPr>
              <a:xfrm>
                <a:off x="5319720" y="20019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56160" y="200196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582880" y="5889600"/>
              <a:ext cx="678600" cy="366120"/>
              <a:chOff x="5582880" y="5889600"/>
              <a:chExt cx="678600" cy="366120"/>
            </a:xfrm>
          </p:grpSpPr>
          <p:sp>
            <p:nvSpPr>
              <p:cNvPr id="539" name=""/>
              <p:cNvSpPr/>
              <p:nvPr/>
            </p:nvSpPr>
            <p:spPr>
              <a:xfrm>
                <a:off x="5582880" y="58896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736600" y="588960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38840" y="58896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975280" y="58896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108480" y="58896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5621760" y="4471920"/>
              <a:ext cx="645840" cy="366120"/>
              <a:chOff x="5621760" y="4471920"/>
              <a:chExt cx="645840" cy="366120"/>
            </a:xfrm>
          </p:grpSpPr>
          <p:sp>
            <p:nvSpPr>
              <p:cNvPr id="545" name=""/>
              <p:cNvSpPr/>
              <p:nvPr/>
            </p:nvSpPr>
            <p:spPr>
              <a:xfrm>
                <a:off x="5621760" y="4471920"/>
                <a:ext cx="119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740200" y="447192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25880" y="4471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978520" y="447192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114600" y="4471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4927320" y="1457280"/>
              <a:ext cx="2457720" cy="366120"/>
              <a:chOff x="4927320" y="1457280"/>
              <a:chExt cx="2457720" cy="366120"/>
            </a:xfrm>
          </p:grpSpPr>
          <p:sp>
            <p:nvSpPr>
              <p:cNvPr id="551" name=""/>
              <p:cNvSpPr/>
              <p:nvPr/>
            </p:nvSpPr>
            <p:spPr>
              <a:xfrm>
                <a:off x="4927320" y="1457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077440" y="14572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180040" y="145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16120" y="1457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68400" y="1457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18520" y="1457280"/>
                <a:ext cx="119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736960" y="145728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22640" y="145728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905440" y="145728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990760" y="1457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143400" y="1457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94240" y="145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430680" y="145728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3120" y="145728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89440" y="1457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41720" y="1457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892200" y="14572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994440" y="145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129800" y="1457280"/>
                <a:ext cx="119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48600" y="145728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686040" y="2027160"/>
              <a:ext cx="1808280" cy="366120"/>
              <a:chOff x="3686040" y="2027160"/>
              <a:chExt cx="1808280" cy="366120"/>
            </a:xfrm>
          </p:grpSpPr>
          <p:sp>
            <p:nvSpPr>
              <p:cNvPr id="572" name=""/>
              <p:cNvSpPr/>
              <p:nvPr/>
            </p:nvSpPr>
            <p:spPr>
              <a:xfrm>
                <a:off x="3686040" y="2027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20680" y="202716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97000" y="202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049640" y="2027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182120" y="202716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82560" y="202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435560" y="2027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71640" y="202716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654080" y="202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806360" y="202716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882680" y="2027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033160" y="202716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135400" y="202716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221080" y="2027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357880" y="2027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4480920" y="2584440"/>
              <a:ext cx="1411560" cy="366120"/>
              <a:chOff x="4480920" y="2584440"/>
              <a:chExt cx="1411560" cy="366120"/>
            </a:xfrm>
          </p:grpSpPr>
          <p:sp>
            <p:nvSpPr>
              <p:cNvPr id="588" name=""/>
              <p:cNvSpPr/>
              <p:nvPr/>
            </p:nvSpPr>
            <p:spPr>
              <a:xfrm>
                <a:off x="4480920" y="2584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35360" y="25844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71080" y="258444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73320" y="2584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023800" y="258444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100120" y="2584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252760" y="2584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04680" y="258444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503680" y="25844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37600" y="2584440"/>
                <a:ext cx="119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56040" y="25844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660480" y="3268800"/>
              <a:ext cx="1089360" cy="366120"/>
              <a:chOff x="3660480" y="3268800"/>
              <a:chExt cx="1089360" cy="366120"/>
            </a:xfrm>
          </p:grpSpPr>
          <p:sp>
            <p:nvSpPr>
              <p:cNvPr id="600" name=""/>
              <p:cNvSpPr/>
              <p:nvPr/>
            </p:nvSpPr>
            <p:spPr>
              <a:xfrm>
                <a:off x="3660480" y="32688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746160" y="3268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897360" y="32688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030200" y="326880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105800" y="3268800"/>
                <a:ext cx="119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227480" y="32688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309560" y="3268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460760" y="32688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96840" y="32688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4863960" y="5294160"/>
              <a:ext cx="1967040" cy="366120"/>
              <a:chOff x="4863960" y="5294160"/>
              <a:chExt cx="1967040" cy="366120"/>
            </a:xfrm>
          </p:grpSpPr>
          <p:sp>
            <p:nvSpPr>
              <p:cNvPr id="610" name=""/>
              <p:cNvSpPr/>
              <p:nvPr/>
            </p:nvSpPr>
            <p:spPr>
              <a:xfrm>
                <a:off x="4863960" y="5294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998600" y="5294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51240" y="529416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4040" y="5294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370480" y="5294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506920" y="529416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87920" y="529416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71800" y="5294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25880" y="5294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59080" y="529416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035400" y="5294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186240" y="52941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338160" y="529416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440400" y="5294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575760" y="5294160"/>
                <a:ext cx="119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694560" y="529416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684600" y="5902200"/>
              <a:ext cx="1205280" cy="366120"/>
              <a:chOff x="3684600" y="5902200"/>
              <a:chExt cx="1205280" cy="366120"/>
            </a:xfrm>
          </p:grpSpPr>
          <p:sp>
            <p:nvSpPr>
              <p:cNvPr id="627" name=""/>
              <p:cNvSpPr/>
              <p:nvPr/>
            </p:nvSpPr>
            <p:spPr>
              <a:xfrm>
                <a:off x="3684600" y="590220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903480" y="59022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989160" y="59022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074840" y="59022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227120" y="590220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03800" y="590220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435200" y="59022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586040" y="59022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36880" y="59022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647960" y="3902040"/>
              <a:ext cx="1479600" cy="366120"/>
              <a:chOff x="4647960" y="3902040"/>
              <a:chExt cx="1479600" cy="366120"/>
            </a:xfrm>
          </p:grpSpPr>
          <p:sp>
            <p:nvSpPr>
              <p:cNvPr id="637" name=""/>
              <p:cNvSpPr/>
              <p:nvPr/>
            </p:nvSpPr>
            <p:spPr>
              <a:xfrm>
                <a:off x="4647960" y="39020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00240" y="39020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952520" y="39020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103360" y="39020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255640" y="390204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331960" y="39020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84240" y="39020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34720" y="390204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37320" y="39020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72680" y="3902040"/>
                <a:ext cx="119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991120" y="390204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3610080" y="4471920"/>
              <a:ext cx="1884240" cy="366120"/>
              <a:chOff x="3610080" y="4471920"/>
              <a:chExt cx="1884240" cy="366120"/>
            </a:xfrm>
          </p:grpSpPr>
          <p:sp>
            <p:nvSpPr>
              <p:cNvPr id="649" name=""/>
              <p:cNvSpPr/>
              <p:nvPr/>
            </p:nvSpPr>
            <p:spPr>
              <a:xfrm>
                <a:off x="3610080" y="447192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46160" y="447192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26800" y="4471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903480" y="447192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039560" y="4471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116240" y="447192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01560" y="4471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53120" y="4471920"/>
                <a:ext cx="220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572000" y="447192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04480" y="44719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806360" y="4471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82680" y="4471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33160" y="44719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135400" y="447192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221080" y="447192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357880" y="4471920"/>
                <a:ext cx="13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189840" y="3525840"/>
              <a:ext cx="139356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44240" y="34732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883640" y="34732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15040" y="34732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66600" y="3473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38680" y="34732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415000" y="34732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97520" y="347328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683560" y="34732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819280" y="347328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937000" y="34732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5553000" y="3490560"/>
              <a:ext cx="595440" cy="189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3894120" y="1755360"/>
              <a:ext cx="1114560" cy="252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792160" y="1755720"/>
              <a:ext cx="1089000" cy="3286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3881160" y="2921040"/>
              <a:ext cx="1228680" cy="34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982960" y="2921040"/>
              <a:ext cx="860400" cy="417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4084560" y="4224240"/>
              <a:ext cx="1114560" cy="2541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2906640" y="4224240"/>
              <a:ext cx="1177920" cy="30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>
              <a:off x="4186080" y="5605560"/>
              <a:ext cx="911520" cy="3427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3171600" y="5618160"/>
              <a:ext cx="1027080" cy="34308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526440" y="276876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ill give us possible sentence order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face sentences, 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(ubject) V(erb)  O(bj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d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they eat ice-cream”  (English, Finnish, Chinese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ice-cream they eat” (Japanese, Hindi, Turkish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S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eat they ice-cream” (Welsh, Arabic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eat ice-cream they” (Malagasy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ice-cream they eat” (Kabardian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ice-cream eat they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meter space of langu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201680" y="1824120"/>
          <a:ext cx="6730920" cy="32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1824120"/>
                    <a:ext cx="673092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meter space - 1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4" name="trig1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1308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apanes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447920" y="711360"/>
            <a:ext cx="64134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mple switch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3, so 8 possible languages (grammars) – set 0 or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ment first/final (dual of Head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glish: Complement final (value =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er first/final (determiner on right or left, Subject on right or lef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 second or not  (German/n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185640" y="2257560"/>
            <a:ext cx="385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[ 0  1  0  ] = ‘English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39960" y="3228840"/>
            <a:ext cx="430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pec 1st/final  comp 1st/final   –V2/+V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168720" y="2704680"/>
            <a:ext cx="38088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638520" y="2730240"/>
            <a:ext cx="38088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4482720" y="2742840"/>
            <a:ext cx="68580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93200" y="4365720"/>
            <a:ext cx="392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[ 0   0  1] = ‘Germa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1344600"/>
                <a:tab algn="l" pos="2689200"/>
                <a:tab algn="l" pos="4033800"/>
                <a:tab algn="l" pos="5378400"/>
                <a:tab algn="l" pos="6723000"/>
                <a:tab algn="l" pos="8067600"/>
                <a:tab algn="l" pos="9412200"/>
                <a:tab algn="l" pos="107568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metric space – triggering learning algorithm (TLA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5486400"/>
            <a:ext cx="4305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pec 1st/final  comp 1st/final   –V2/+V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4191120" y="4876560"/>
            <a:ext cx="0" cy="533160"/>
          </a:xfrm>
          <a:prstGeom prst="line">
            <a:avLst/>
          </a:prstGeom>
          <a:ln w="316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4572000" y="4876560"/>
            <a:ext cx="0" cy="533160"/>
          </a:xfrm>
          <a:prstGeom prst="line">
            <a:avLst/>
          </a:prstGeom>
          <a:ln w="316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467480" y="24382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96080" y="2438280"/>
            <a:ext cx="22860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924680" y="24382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91520" y="4572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20120" y="4572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48720" y="4572000"/>
            <a:ext cx="22860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L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6 possible surface sentence comb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O, SOV, S Aux V O,  S Aux O V, S V O1 O2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use only simple sentences (at most, perhaps one embedding) – psychological fide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bit different example that moves us from one setting to the next is called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rig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logical problem of language acquisi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do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niquely specify the grammar (however you want to represent it)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ulus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dox 1: children grow up to speak language of their careta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posed solu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arget choice of candidate grammars is restricte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theory of Universal Grammar (U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aradox 2: why does language evolve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L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ize: set some random parameter set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 input sentence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current parameter setting parse 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es, don’t change anything &amp; go back to step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No, flip one parameter bit at random and go back to step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Greedy, not very sma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9" name=""/>
          <p:cNvGraphicFramePr/>
          <p:nvPr/>
        </p:nvGraphicFramePr>
        <p:xfrm>
          <a:off x="914400" y="1123920"/>
          <a:ext cx="723888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3920"/>
                    <a:ext cx="723888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375840" y="5715000"/>
            <a:ext cx="4806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Greedy, not very sm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4920" y="-23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to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t there from he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782800" y="4253040"/>
            <a:ext cx="1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90360" y="4678200"/>
            <a:ext cx="513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nsitions based on example sent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39240" y="42782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782800" y="4699080"/>
            <a:ext cx="1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767680" y="5122800"/>
            <a:ext cx="654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(transition) based on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ahoma"/>
              </a:rPr>
              <a:t>set dif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110160" y="472284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29160" y="5592600"/>
            <a:ext cx="65811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nguages, normalized by target language |L</a:t>
            </a:r>
            <a:r>
              <a:rPr b="0" lang="en-US" sz="2300" spc="-1" strike="noStrike" baseline="-14000">
                <a:solidFill>
                  <a:srgbClr val="000000"/>
                </a:solidFill>
                <a:latin typeface="Tahoma"/>
              </a:rPr>
              <a:t>targe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examples (in our case, if t=English,36 of the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827920" y="52005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0400" y="1506600"/>
            <a:ext cx="1103040" cy="1103400"/>
          </a:xfrm>
          <a:prstGeom prst="ellipse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07080" y="1940040"/>
            <a:ext cx="840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ang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39160" y="2590920"/>
            <a:ext cx="1216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ec-first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73120" y="24256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02800" y="2867040"/>
            <a:ext cx="1364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p first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579680" y="28670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920" y="3170160"/>
            <a:ext cx="1134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erb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0 0 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42880" y="33116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914040" y="3809880"/>
            <a:ext cx="1972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ans boi-ta ke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37000" y="4084560"/>
            <a:ext cx="2275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ans the book bu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972880" y="2209680"/>
            <a:ext cx="2326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ject-Verb-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62560" y="2373480"/>
            <a:ext cx="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32320" y="2514600"/>
            <a:ext cx="1123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831920" y="28177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81640" y="2819520"/>
            <a:ext cx="1262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42080" y="1454040"/>
            <a:ext cx="1103400" cy="1103400"/>
          </a:xfrm>
          <a:prstGeom prst="ellipse">
            <a:avLst/>
          </a:prstGeom>
          <a:noFill/>
          <a:ln w="23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944680" y="1828800"/>
            <a:ext cx="991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Germ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71960" y="2577960"/>
            <a:ext cx="1317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ec-first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p-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705880" y="25779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83480" y="3260880"/>
            <a:ext cx="12232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Verb 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[0 0 1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942520" y="4237200"/>
            <a:ext cx="2275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Hans buys the bo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507520" y="34639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66200" y="3932280"/>
            <a:ext cx="244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Hans kauft das Bu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36680" y="1987560"/>
            <a:ext cx="3633840" cy="88920"/>
          </a:xfrm>
          <a:custGeom>
            <a:avLst/>
            <a:gdLst/>
            <a:ahLst/>
            <a:rect l="l" t="t" r="r" b="b"/>
            <a:pathLst>
              <a:path w="2289" h="56">
                <a:moveTo>
                  <a:pt x="0" y="0"/>
                </a:moveTo>
                <a:lnTo>
                  <a:pt x="2289" y="0"/>
                </a:lnTo>
                <a:lnTo>
                  <a:pt x="2179" y="56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5695560" y="1899720"/>
            <a:ext cx="174600" cy="87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167652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523880" y="167652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52480" y="167652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19920" y="16002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16002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477120" y="1600200"/>
            <a:ext cx="22860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7040" y="3276720"/>
            <a:ext cx="244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00"/>
                </a:solidFill>
                <a:latin typeface="Times New Roman"/>
              </a:rPr>
              <a:t>Hans kauft das Bu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arning driven by language triggering set differenc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3033720" y="2443320"/>
            <a:ext cx="1932120" cy="1993680"/>
          </a:xfrm>
          <a:prstGeom prst="ellipse">
            <a:avLst/>
          </a:prstGeom>
          <a:solidFill>
            <a:srgbClr val="0000ff"/>
          </a:solidFill>
          <a:ln w="23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179960" y="2419200"/>
            <a:ext cx="1928880" cy="1994040"/>
          </a:xfrm>
          <a:prstGeom prst="ellipse">
            <a:avLst/>
          </a:prstGeom>
          <a:solidFill>
            <a:srgbClr val="fc0128"/>
          </a:solidFill>
          <a:ln w="23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91120" y="2684520"/>
            <a:ext cx="774720" cy="1563480"/>
          </a:xfrm>
          <a:prstGeom prst="ellipse">
            <a:avLst/>
          </a:prstGeom>
          <a:solidFill>
            <a:srgbClr val="00ffff"/>
          </a:solidFill>
          <a:ln w="23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62120" y="3581280"/>
            <a:ext cx="1931760" cy="19940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34320" y="4038480"/>
            <a:ext cx="1931760" cy="19940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676520" y="4038480"/>
            <a:ext cx="295200" cy="304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9000" y="3276720"/>
            <a:ext cx="295200" cy="304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905120" y="3428640"/>
            <a:ext cx="16002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257800" y="2971800"/>
            <a:ext cx="295200" cy="304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581280" y="3123720"/>
            <a:ext cx="175284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5486400" y="2895480"/>
            <a:ext cx="13716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67480" y="3048120"/>
            <a:ext cx="45720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772400" y="4952880"/>
            <a:ext cx="295200" cy="304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2895480"/>
            <a:ext cx="7596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086600" y="289548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2895480"/>
            <a:ext cx="76320" cy="763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5257800"/>
            <a:ext cx="27432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\L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|L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</a:rPr>
              <a:t>targ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722360" y="5334120"/>
            <a:ext cx="674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429000" y="2743200"/>
            <a:ext cx="4428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imes New Roman"/>
              </a:rPr>
              <a:t>L</a:t>
            </a:r>
            <a:r>
              <a:rPr b="1" lang="en-US" sz="1800" spc="-1" strike="noStrike" baseline="-25000">
                <a:solidFill>
                  <a:srgbClr val="996633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029200" y="2514600"/>
            <a:ext cx="4428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286000" y="1198440"/>
            <a:ext cx="5473800" cy="5491440"/>
          </a:xfrm>
          <a:prstGeom prst="ellipse">
            <a:avLst/>
          </a:prstGeom>
          <a:solidFill>
            <a:srgbClr val="ffffff"/>
          </a:solidFill>
          <a:ln w="82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103560" y="2043000"/>
            <a:ext cx="3633840" cy="3614760"/>
          </a:xfrm>
          <a:prstGeom prst="ellipse">
            <a:avLst/>
          </a:prstGeom>
          <a:solidFill>
            <a:srgbClr val="ffffff"/>
          </a:solidFill>
          <a:ln w="82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495680" y="5591160"/>
            <a:ext cx="581040" cy="515880"/>
          </a:xfrm>
          <a:custGeom>
            <a:avLst/>
            <a:gdLst/>
            <a:ahLst/>
            <a:rect l="l" t="t" r="r" b="b"/>
            <a:pathLst>
              <a:path w="366" h="325">
                <a:moveTo>
                  <a:pt x="211" y="0"/>
                </a:moveTo>
                <a:lnTo>
                  <a:pt x="183" y="13"/>
                </a:lnTo>
                <a:lnTo>
                  <a:pt x="159" y="23"/>
                </a:lnTo>
                <a:lnTo>
                  <a:pt x="136" y="36"/>
                </a:lnTo>
                <a:lnTo>
                  <a:pt x="116" y="47"/>
                </a:lnTo>
                <a:lnTo>
                  <a:pt x="79" y="70"/>
                </a:lnTo>
                <a:lnTo>
                  <a:pt x="51" y="93"/>
                </a:lnTo>
                <a:lnTo>
                  <a:pt x="30" y="116"/>
                </a:lnTo>
                <a:lnTo>
                  <a:pt x="15" y="140"/>
                </a:lnTo>
                <a:lnTo>
                  <a:pt x="5" y="160"/>
                </a:lnTo>
                <a:lnTo>
                  <a:pt x="0" y="181"/>
                </a:lnTo>
                <a:lnTo>
                  <a:pt x="2" y="202"/>
                </a:lnTo>
                <a:lnTo>
                  <a:pt x="5" y="222"/>
                </a:lnTo>
                <a:lnTo>
                  <a:pt x="15" y="240"/>
                </a:lnTo>
                <a:lnTo>
                  <a:pt x="28" y="258"/>
                </a:lnTo>
                <a:lnTo>
                  <a:pt x="43" y="274"/>
                </a:lnTo>
                <a:lnTo>
                  <a:pt x="61" y="287"/>
                </a:lnTo>
                <a:lnTo>
                  <a:pt x="82" y="297"/>
                </a:lnTo>
                <a:lnTo>
                  <a:pt x="105" y="307"/>
                </a:lnTo>
                <a:lnTo>
                  <a:pt x="128" y="315"/>
                </a:lnTo>
                <a:lnTo>
                  <a:pt x="154" y="323"/>
                </a:lnTo>
                <a:lnTo>
                  <a:pt x="177" y="325"/>
                </a:lnTo>
                <a:lnTo>
                  <a:pt x="203" y="325"/>
                </a:lnTo>
                <a:lnTo>
                  <a:pt x="229" y="323"/>
                </a:lnTo>
                <a:lnTo>
                  <a:pt x="252" y="318"/>
                </a:lnTo>
                <a:lnTo>
                  <a:pt x="275" y="310"/>
                </a:lnTo>
                <a:lnTo>
                  <a:pt x="296" y="297"/>
                </a:lnTo>
                <a:lnTo>
                  <a:pt x="317" y="284"/>
                </a:lnTo>
                <a:lnTo>
                  <a:pt x="332" y="266"/>
                </a:lnTo>
                <a:lnTo>
                  <a:pt x="347" y="243"/>
                </a:lnTo>
                <a:lnTo>
                  <a:pt x="358" y="217"/>
                </a:lnTo>
                <a:lnTo>
                  <a:pt x="363" y="186"/>
                </a:lnTo>
                <a:lnTo>
                  <a:pt x="366" y="153"/>
                </a:lnTo>
                <a:lnTo>
                  <a:pt x="363" y="114"/>
                </a:lnTo>
                <a:lnTo>
                  <a:pt x="355" y="70"/>
                </a:lnTo>
                <a:lnTo>
                  <a:pt x="211" y="0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95680" y="5591160"/>
            <a:ext cx="555840" cy="515880"/>
          </a:xfrm>
          <a:custGeom>
            <a:avLst/>
            <a:gdLst/>
            <a:ahLst/>
            <a:rect l="l" t="t" r="r" b="b"/>
            <a:pathLst>
              <a:path w="350" h="325">
                <a:moveTo>
                  <a:pt x="211" y="0"/>
                </a:moveTo>
                <a:lnTo>
                  <a:pt x="183" y="13"/>
                </a:lnTo>
                <a:lnTo>
                  <a:pt x="159" y="23"/>
                </a:lnTo>
                <a:lnTo>
                  <a:pt x="136" y="36"/>
                </a:lnTo>
                <a:lnTo>
                  <a:pt x="116" y="47"/>
                </a:lnTo>
                <a:lnTo>
                  <a:pt x="79" y="70"/>
                </a:lnTo>
                <a:lnTo>
                  <a:pt x="51" y="93"/>
                </a:lnTo>
                <a:lnTo>
                  <a:pt x="30" y="116"/>
                </a:lnTo>
                <a:lnTo>
                  <a:pt x="15" y="140"/>
                </a:lnTo>
                <a:lnTo>
                  <a:pt x="5" y="160"/>
                </a:lnTo>
                <a:lnTo>
                  <a:pt x="0" y="181"/>
                </a:lnTo>
                <a:lnTo>
                  <a:pt x="2" y="202"/>
                </a:lnTo>
                <a:lnTo>
                  <a:pt x="5" y="222"/>
                </a:lnTo>
                <a:lnTo>
                  <a:pt x="15" y="240"/>
                </a:lnTo>
                <a:lnTo>
                  <a:pt x="28" y="258"/>
                </a:lnTo>
                <a:lnTo>
                  <a:pt x="43" y="274"/>
                </a:lnTo>
                <a:lnTo>
                  <a:pt x="61" y="287"/>
                </a:lnTo>
                <a:lnTo>
                  <a:pt x="82" y="297"/>
                </a:lnTo>
                <a:lnTo>
                  <a:pt x="105" y="307"/>
                </a:lnTo>
                <a:lnTo>
                  <a:pt x="128" y="315"/>
                </a:lnTo>
                <a:lnTo>
                  <a:pt x="154" y="323"/>
                </a:lnTo>
                <a:lnTo>
                  <a:pt x="177" y="325"/>
                </a:lnTo>
                <a:lnTo>
                  <a:pt x="203" y="325"/>
                </a:lnTo>
                <a:lnTo>
                  <a:pt x="229" y="323"/>
                </a:lnTo>
                <a:lnTo>
                  <a:pt x="252" y="318"/>
                </a:lnTo>
                <a:lnTo>
                  <a:pt x="275" y="310"/>
                </a:lnTo>
                <a:lnTo>
                  <a:pt x="296" y="297"/>
                </a:lnTo>
                <a:lnTo>
                  <a:pt x="317" y="284"/>
                </a:lnTo>
                <a:lnTo>
                  <a:pt x="332" y="266"/>
                </a:lnTo>
                <a:lnTo>
                  <a:pt x="347" y="243"/>
                </a:lnTo>
                <a:lnTo>
                  <a:pt x="350" y="145"/>
                </a:lnTo>
              </a:path>
            </a:pathLst>
          </a:custGeom>
          <a:noFill/>
          <a:ln w="33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73760" y="5718240"/>
            <a:ext cx="171360" cy="23796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65" y="0"/>
                </a:moveTo>
                <a:lnTo>
                  <a:pt x="108" y="150"/>
                </a:lnTo>
                <a:lnTo>
                  <a:pt x="59" y="73"/>
                </a:lnTo>
                <a:lnTo>
                  <a:pt x="0" y="145"/>
                </a:lnTo>
                <a:lnTo>
                  <a:pt x="62" y="0"/>
                </a:lnTo>
                <a:lnTo>
                  <a:pt x="65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102200" y="2895480"/>
            <a:ext cx="1719000" cy="1737000"/>
          </a:xfrm>
          <a:prstGeom prst="ellipse">
            <a:avLst/>
          </a:prstGeom>
          <a:solidFill>
            <a:srgbClr val="ffffff"/>
          </a:solidFill>
          <a:ln w="82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91160" y="3710160"/>
            <a:ext cx="635040" cy="603000"/>
          </a:xfrm>
          <a:custGeom>
            <a:avLst/>
            <a:gdLst/>
            <a:ahLst/>
            <a:rect l="l" t="t" r="r" b="b"/>
            <a:pathLst>
              <a:path w="400" h="380">
                <a:moveTo>
                  <a:pt x="57" y="16"/>
                </a:moveTo>
                <a:lnTo>
                  <a:pt x="31" y="68"/>
                </a:lnTo>
                <a:lnTo>
                  <a:pt x="16" y="117"/>
                </a:lnTo>
                <a:lnTo>
                  <a:pt x="5" y="160"/>
                </a:lnTo>
                <a:lnTo>
                  <a:pt x="0" y="199"/>
                </a:lnTo>
                <a:lnTo>
                  <a:pt x="0" y="235"/>
                </a:lnTo>
                <a:lnTo>
                  <a:pt x="8" y="266"/>
                </a:lnTo>
                <a:lnTo>
                  <a:pt x="18" y="292"/>
                </a:lnTo>
                <a:lnTo>
                  <a:pt x="34" y="315"/>
                </a:lnTo>
                <a:lnTo>
                  <a:pt x="52" y="336"/>
                </a:lnTo>
                <a:lnTo>
                  <a:pt x="72" y="351"/>
                </a:lnTo>
                <a:lnTo>
                  <a:pt x="98" y="364"/>
                </a:lnTo>
                <a:lnTo>
                  <a:pt x="124" y="372"/>
                </a:lnTo>
                <a:lnTo>
                  <a:pt x="150" y="377"/>
                </a:lnTo>
                <a:lnTo>
                  <a:pt x="178" y="380"/>
                </a:lnTo>
                <a:lnTo>
                  <a:pt x="206" y="380"/>
                </a:lnTo>
                <a:lnTo>
                  <a:pt x="235" y="375"/>
                </a:lnTo>
                <a:lnTo>
                  <a:pt x="263" y="370"/>
                </a:lnTo>
                <a:lnTo>
                  <a:pt x="291" y="359"/>
                </a:lnTo>
                <a:lnTo>
                  <a:pt x="315" y="346"/>
                </a:lnTo>
                <a:lnTo>
                  <a:pt x="338" y="331"/>
                </a:lnTo>
                <a:lnTo>
                  <a:pt x="358" y="315"/>
                </a:lnTo>
                <a:lnTo>
                  <a:pt x="374" y="295"/>
                </a:lnTo>
                <a:lnTo>
                  <a:pt x="387" y="274"/>
                </a:lnTo>
                <a:lnTo>
                  <a:pt x="397" y="251"/>
                </a:lnTo>
                <a:lnTo>
                  <a:pt x="400" y="225"/>
                </a:lnTo>
                <a:lnTo>
                  <a:pt x="397" y="197"/>
                </a:lnTo>
                <a:lnTo>
                  <a:pt x="392" y="168"/>
                </a:lnTo>
                <a:lnTo>
                  <a:pt x="377" y="137"/>
                </a:lnTo>
                <a:lnTo>
                  <a:pt x="366" y="122"/>
                </a:lnTo>
                <a:lnTo>
                  <a:pt x="356" y="106"/>
                </a:lnTo>
                <a:lnTo>
                  <a:pt x="343" y="88"/>
                </a:lnTo>
                <a:lnTo>
                  <a:pt x="328" y="73"/>
                </a:lnTo>
                <a:lnTo>
                  <a:pt x="312" y="55"/>
                </a:lnTo>
                <a:lnTo>
                  <a:pt x="291" y="37"/>
                </a:lnTo>
                <a:lnTo>
                  <a:pt x="271" y="19"/>
                </a:lnTo>
                <a:lnTo>
                  <a:pt x="248" y="0"/>
                </a:lnTo>
                <a:lnTo>
                  <a:pt x="57" y="16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91160" y="3735360"/>
            <a:ext cx="490320" cy="577800"/>
          </a:xfrm>
          <a:custGeom>
            <a:avLst/>
            <a:gdLst/>
            <a:ahLst/>
            <a:rect l="l" t="t" r="r" b="b"/>
            <a:pathLst>
              <a:path w="400" h="364">
                <a:moveTo>
                  <a:pt x="57" y="0"/>
                </a:moveTo>
                <a:lnTo>
                  <a:pt x="57" y="0"/>
                </a:lnTo>
                <a:lnTo>
                  <a:pt x="31" y="52"/>
                </a:lnTo>
                <a:lnTo>
                  <a:pt x="16" y="101"/>
                </a:lnTo>
                <a:lnTo>
                  <a:pt x="5" y="144"/>
                </a:lnTo>
                <a:lnTo>
                  <a:pt x="0" y="183"/>
                </a:lnTo>
                <a:lnTo>
                  <a:pt x="0" y="219"/>
                </a:lnTo>
                <a:lnTo>
                  <a:pt x="8" y="250"/>
                </a:lnTo>
                <a:lnTo>
                  <a:pt x="18" y="276"/>
                </a:lnTo>
                <a:lnTo>
                  <a:pt x="34" y="299"/>
                </a:lnTo>
                <a:lnTo>
                  <a:pt x="52" y="320"/>
                </a:lnTo>
                <a:lnTo>
                  <a:pt x="72" y="335"/>
                </a:lnTo>
                <a:lnTo>
                  <a:pt x="98" y="348"/>
                </a:lnTo>
                <a:lnTo>
                  <a:pt x="124" y="356"/>
                </a:lnTo>
                <a:lnTo>
                  <a:pt x="150" y="361"/>
                </a:lnTo>
                <a:lnTo>
                  <a:pt x="178" y="364"/>
                </a:lnTo>
                <a:lnTo>
                  <a:pt x="206" y="364"/>
                </a:lnTo>
                <a:lnTo>
                  <a:pt x="235" y="359"/>
                </a:lnTo>
                <a:lnTo>
                  <a:pt x="263" y="354"/>
                </a:lnTo>
                <a:lnTo>
                  <a:pt x="291" y="343"/>
                </a:lnTo>
                <a:lnTo>
                  <a:pt x="315" y="330"/>
                </a:lnTo>
                <a:lnTo>
                  <a:pt x="338" y="315"/>
                </a:lnTo>
                <a:lnTo>
                  <a:pt x="358" y="299"/>
                </a:lnTo>
                <a:lnTo>
                  <a:pt x="374" y="279"/>
                </a:lnTo>
                <a:lnTo>
                  <a:pt x="387" y="258"/>
                </a:lnTo>
                <a:lnTo>
                  <a:pt x="397" y="235"/>
                </a:lnTo>
                <a:lnTo>
                  <a:pt x="400" y="209"/>
                </a:lnTo>
                <a:lnTo>
                  <a:pt x="397" y="181"/>
                </a:lnTo>
                <a:lnTo>
                  <a:pt x="392" y="152"/>
                </a:lnTo>
                <a:lnTo>
                  <a:pt x="377" y="121"/>
                </a:lnTo>
                <a:lnTo>
                  <a:pt x="366" y="106"/>
                </a:lnTo>
                <a:lnTo>
                  <a:pt x="299" y="39"/>
                </a:lnTo>
              </a:path>
            </a:pathLst>
          </a:custGeom>
          <a:noFill/>
          <a:ln w="33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95800" y="3727440"/>
            <a:ext cx="225360" cy="225360"/>
          </a:xfrm>
          <a:custGeom>
            <a:avLst/>
            <a:gdLst/>
            <a:ahLst/>
            <a:rect l="l" t="t" r="r" b="b"/>
            <a:pathLst>
              <a:path w="142" h="142">
                <a:moveTo>
                  <a:pt x="3" y="0"/>
                </a:moveTo>
                <a:lnTo>
                  <a:pt x="142" y="67"/>
                </a:lnTo>
                <a:lnTo>
                  <a:pt x="52" y="51"/>
                </a:lnTo>
                <a:lnTo>
                  <a:pt x="65" y="142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541680" y="3825720"/>
            <a:ext cx="539640" cy="381240"/>
          </a:xfrm>
          <a:custGeom>
            <a:avLst/>
            <a:gdLst/>
            <a:ahLst/>
            <a:rect l="l" t="t" r="r" b="b"/>
            <a:pathLst>
              <a:path w="340" h="240">
                <a:moveTo>
                  <a:pt x="340" y="10"/>
                </a:moveTo>
                <a:lnTo>
                  <a:pt x="317" y="5"/>
                </a:lnTo>
                <a:lnTo>
                  <a:pt x="289" y="2"/>
                </a:lnTo>
                <a:lnTo>
                  <a:pt x="258" y="0"/>
                </a:lnTo>
                <a:lnTo>
                  <a:pt x="224" y="2"/>
                </a:lnTo>
                <a:lnTo>
                  <a:pt x="191" y="5"/>
                </a:lnTo>
                <a:lnTo>
                  <a:pt x="157" y="10"/>
                </a:lnTo>
                <a:lnTo>
                  <a:pt x="126" y="18"/>
                </a:lnTo>
                <a:lnTo>
                  <a:pt x="95" y="28"/>
                </a:lnTo>
                <a:lnTo>
                  <a:pt x="67" y="41"/>
                </a:lnTo>
                <a:lnTo>
                  <a:pt x="44" y="54"/>
                </a:lnTo>
                <a:lnTo>
                  <a:pt x="23" y="72"/>
                </a:lnTo>
                <a:lnTo>
                  <a:pt x="10" y="90"/>
                </a:lnTo>
                <a:lnTo>
                  <a:pt x="5" y="100"/>
                </a:lnTo>
                <a:lnTo>
                  <a:pt x="0" y="113"/>
                </a:lnTo>
                <a:lnTo>
                  <a:pt x="0" y="124"/>
                </a:lnTo>
                <a:lnTo>
                  <a:pt x="0" y="137"/>
                </a:lnTo>
                <a:lnTo>
                  <a:pt x="3" y="149"/>
                </a:lnTo>
                <a:lnTo>
                  <a:pt x="8" y="162"/>
                </a:lnTo>
                <a:lnTo>
                  <a:pt x="16" y="178"/>
                </a:lnTo>
                <a:lnTo>
                  <a:pt x="23" y="193"/>
                </a:lnTo>
                <a:lnTo>
                  <a:pt x="39" y="211"/>
                </a:lnTo>
                <a:lnTo>
                  <a:pt x="59" y="224"/>
                </a:lnTo>
                <a:lnTo>
                  <a:pt x="80" y="232"/>
                </a:lnTo>
                <a:lnTo>
                  <a:pt x="101" y="237"/>
                </a:lnTo>
                <a:lnTo>
                  <a:pt x="126" y="240"/>
                </a:lnTo>
                <a:lnTo>
                  <a:pt x="150" y="235"/>
                </a:lnTo>
                <a:lnTo>
                  <a:pt x="175" y="229"/>
                </a:lnTo>
                <a:lnTo>
                  <a:pt x="201" y="219"/>
                </a:lnTo>
                <a:lnTo>
                  <a:pt x="224" y="209"/>
                </a:lnTo>
                <a:lnTo>
                  <a:pt x="248" y="193"/>
                </a:lnTo>
                <a:lnTo>
                  <a:pt x="268" y="175"/>
                </a:lnTo>
                <a:lnTo>
                  <a:pt x="289" y="157"/>
                </a:lnTo>
                <a:lnTo>
                  <a:pt x="304" y="137"/>
                </a:lnTo>
                <a:lnTo>
                  <a:pt x="320" y="116"/>
                </a:lnTo>
                <a:lnTo>
                  <a:pt x="330" y="93"/>
                </a:lnTo>
                <a:lnTo>
                  <a:pt x="335" y="69"/>
                </a:lnTo>
                <a:lnTo>
                  <a:pt x="340" y="10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541680" y="3825720"/>
            <a:ext cx="539640" cy="381240"/>
          </a:xfrm>
          <a:custGeom>
            <a:avLst/>
            <a:gdLst/>
            <a:ahLst/>
            <a:rect l="l" t="t" r="r" b="b"/>
            <a:pathLst>
              <a:path w="340" h="240">
                <a:moveTo>
                  <a:pt x="340" y="10"/>
                </a:moveTo>
                <a:lnTo>
                  <a:pt x="340" y="10"/>
                </a:lnTo>
                <a:lnTo>
                  <a:pt x="317" y="5"/>
                </a:lnTo>
                <a:lnTo>
                  <a:pt x="289" y="2"/>
                </a:lnTo>
                <a:lnTo>
                  <a:pt x="258" y="0"/>
                </a:lnTo>
                <a:lnTo>
                  <a:pt x="224" y="2"/>
                </a:lnTo>
                <a:lnTo>
                  <a:pt x="191" y="5"/>
                </a:lnTo>
                <a:lnTo>
                  <a:pt x="157" y="10"/>
                </a:lnTo>
                <a:lnTo>
                  <a:pt x="126" y="18"/>
                </a:lnTo>
                <a:lnTo>
                  <a:pt x="95" y="28"/>
                </a:lnTo>
                <a:lnTo>
                  <a:pt x="67" y="41"/>
                </a:lnTo>
                <a:lnTo>
                  <a:pt x="44" y="54"/>
                </a:lnTo>
                <a:lnTo>
                  <a:pt x="23" y="72"/>
                </a:lnTo>
                <a:lnTo>
                  <a:pt x="10" y="90"/>
                </a:lnTo>
                <a:lnTo>
                  <a:pt x="5" y="100"/>
                </a:lnTo>
                <a:lnTo>
                  <a:pt x="0" y="113"/>
                </a:lnTo>
                <a:lnTo>
                  <a:pt x="0" y="124"/>
                </a:lnTo>
                <a:lnTo>
                  <a:pt x="0" y="137"/>
                </a:lnTo>
                <a:lnTo>
                  <a:pt x="3" y="149"/>
                </a:lnTo>
                <a:lnTo>
                  <a:pt x="8" y="162"/>
                </a:lnTo>
                <a:lnTo>
                  <a:pt x="16" y="178"/>
                </a:lnTo>
                <a:lnTo>
                  <a:pt x="23" y="193"/>
                </a:lnTo>
                <a:lnTo>
                  <a:pt x="23" y="193"/>
                </a:lnTo>
                <a:lnTo>
                  <a:pt x="39" y="211"/>
                </a:lnTo>
                <a:lnTo>
                  <a:pt x="59" y="224"/>
                </a:lnTo>
                <a:lnTo>
                  <a:pt x="80" y="232"/>
                </a:lnTo>
                <a:lnTo>
                  <a:pt x="101" y="237"/>
                </a:lnTo>
                <a:lnTo>
                  <a:pt x="126" y="240"/>
                </a:lnTo>
                <a:lnTo>
                  <a:pt x="150" y="235"/>
                </a:lnTo>
                <a:lnTo>
                  <a:pt x="175" y="229"/>
                </a:lnTo>
                <a:lnTo>
                  <a:pt x="201" y="219"/>
                </a:lnTo>
                <a:lnTo>
                  <a:pt x="224" y="209"/>
                </a:lnTo>
                <a:lnTo>
                  <a:pt x="289" y="126"/>
                </a:lnTo>
              </a:path>
            </a:pathLst>
          </a:custGeom>
          <a:noFill/>
          <a:ln w="33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73600" y="3948120"/>
            <a:ext cx="215640" cy="237960"/>
          </a:xfrm>
          <a:custGeom>
            <a:avLst/>
            <a:gdLst/>
            <a:ahLst/>
            <a:rect l="l" t="t" r="r" b="b"/>
            <a:pathLst>
              <a:path w="136" h="150">
                <a:moveTo>
                  <a:pt x="136" y="3"/>
                </a:moveTo>
                <a:lnTo>
                  <a:pt x="85" y="150"/>
                </a:lnTo>
                <a:lnTo>
                  <a:pt x="90" y="57"/>
                </a:lnTo>
                <a:lnTo>
                  <a:pt x="0" y="80"/>
                </a:lnTo>
                <a:lnTo>
                  <a:pt x="136" y="0"/>
                </a:lnTo>
                <a:lnTo>
                  <a:pt x="136" y="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867200" y="3279600"/>
            <a:ext cx="168480" cy="238320"/>
          </a:xfrm>
          <a:custGeom>
            <a:avLst/>
            <a:gdLst/>
            <a:ahLst/>
            <a:rect l="l" t="t" r="r" b="b"/>
            <a:pathLst>
              <a:path w="106" h="150">
                <a:moveTo>
                  <a:pt x="54" y="150"/>
                </a:moveTo>
                <a:lnTo>
                  <a:pt x="0" y="0"/>
                </a:lnTo>
                <a:lnTo>
                  <a:pt x="54" y="75"/>
                </a:lnTo>
                <a:lnTo>
                  <a:pt x="106" y="0"/>
                </a:lnTo>
                <a:lnTo>
                  <a:pt x="54" y="15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938480" y="3043080"/>
            <a:ext cx="14040" cy="385920"/>
          </a:xfrm>
          <a:prstGeom prst="line">
            <a:avLst/>
          </a:prstGeom>
          <a:ln w="33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765680" y="3510000"/>
            <a:ext cx="342720" cy="344520"/>
          </a:xfrm>
          <a:prstGeom prst="ellipse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67000" y="2895480"/>
            <a:ext cx="230400" cy="228600"/>
          </a:xfrm>
          <a:prstGeom prst="ellipse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22920" y="3567240"/>
            <a:ext cx="228600" cy="230040"/>
          </a:xfrm>
          <a:prstGeom prst="ellipse">
            <a:avLst/>
          </a:prstGeom>
          <a:solidFill>
            <a:srgbClr val="00ff00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91160" y="3141720"/>
            <a:ext cx="228600" cy="22860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805280" y="5419800"/>
            <a:ext cx="230400" cy="228600"/>
          </a:xfrm>
          <a:prstGeom prst="ellipse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09040" y="3346560"/>
            <a:ext cx="76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arget: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889520" y="3625920"/>
            <a:ext cx="102960" cy="21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575400" y="31910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51240" y="29527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81600" y="54687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24600" y="1198440"/>
            <a:ext cx="230040" cy="23040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00560" y="12574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15000" y="2820960"/>
            <a:ext cx="228600" cy="23004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767840" y="403848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0 1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275520" y="3054240"/>
            <a:ext cx="249120" cy="168480"/>
          </a:xfrm>
          <a:custGeom>
            <a:avLst/>
            <a:gdLst/>
            <a:ahLst/>
            <a:rect l="l" t="t" r="r" b="b"/>
            <a:pathLst>
              <a:path w="157" h="106">
                <a:moveTo>
                  <a:pt x="157" y="86"/>
                </a:moveTo>
                <a:lnTo>
                  <a:pt x="0" y="106"/>
                </a:lnTo>
                <a:lnTo>
                  <a:pt x="82" y="70"/>
                </a:lnTo>
                <a:lnTo>
                  <a:pt x="23" y="0"/>
                </a:lnTo>
                <a:lnTo>
                  <a:pt x="157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010120" y="2862360"/>
            <a:ext cx="1382760" cy="287280"/>
          </a:xfrm>
          <a:prstGeom prst="line">
            <a:avLst/>
          </a:prstGeom>
          <a:ln w="33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97440" y="28717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72080"/>
            <a:ext cx="228600" cy="230040"/>
          </a:xfrm>
          <a:prstGeom prst="ellipse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45040" y="38131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559480" y="4051440"/>
            <a:ext cx="228600" cy="228600"/>
          </a:xfrm>
          <a:prstGeom prst="ellipse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662360" y="5202360"/>
            <a:ext cx="176400" cy="249120"/>
          </a:xfrm>
          <a:custGeom>
            <a:avLst/>
            <a:gdLst/>
            <a:ahLst/>
            <a:rect l="l" t="t" r="r" b="b"/>
            <a:pathLst>
              <a:path w="111" h="157">
                <a:moveTo>
                  <a:pt x="111" y="157"/>
                </a:moveTo>
                <a:lnTo>
                  <a:pt x="0" y="44"/>
                </a:lnTo>
                <a:lnTo>
                  <a:pt x="80" y="88"/>
                </a:lnTo>
                <a:lnTo>
                  <a:pt x="98" y="0"/>
                </a:lnTo>
                <a:lnTo>
                  <a:pt x="111" y="15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307040" y="3911760"/>
            <a:ext cx="163440" cy="245880"/>
          </a:xfrm>
          <a:custGeom>
            <a:avLst/>
            <a:gdLst/>
            <a:ahLst/>
            <a:rect l="l" t="t" r="r" b="b"/>
            <a:pathLst>
              <a:path w="103" h="155">
                <a:moveTo>
                  <a:pt x="0" y="0"/>
                </a:moveTo>
                <a:lnTo>
                  <a:pt x="103" y="116"/>
                </a:lnTo>
                <a:lnTo>
                  <a:pt x="26" y="67"/>
                </a:lnTo>
                <a:lnTo>
                  <a:pt x="5" y="155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4176720" y="3976200"/>
            <a:ext cx="596880" cy="1352520"/>
          </a:xfrm>
          <a:prstGeom prst="line">
            <a:avLst/>
          </a:prstGeom>
          <a:ln w="33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335480" y="4002120"/>
            <a:ext cx="576360" cy="1400040"/>
          </a:xfrm>
          <a:prstGeom prst="line">
            <a:avLst/>
          </a:prstGeom>
          <a:ln w="33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634000" y="40924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03960" y="4238640"/>
            <a:ext cx="187200" cy="245880"/>
          </a:xfrm>
          <a:custGeom>
            <a:avLst/>
            <a:gdLst/>
            <a:ahLst/>
            <a:rect l="l" t="t" r="r" b="b"/>
            <a:pathLst>
              <a:path w="118" h="155">
                <a:moveTo>
                  <a:pt x="118" y="0"/>
                </a:moveTo>
                <a:lnTo>
                  <a:pt x="95" y="155"/>
                </a:lnTo>
                <a:lnTo>
                  <a:pt x="82" y="65"/>
                </a:lnTo>
                <a:lnTo>
                  <a:pt x="0" y="104"/>
                </a:lnTo>
                <a:lnTo>
                  <a:pt x="1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40320" y="2911320"/>
            <a:ext cx="200160" cy="246240"/>
          </a:xfrm>
          <a:custGeom>
            <a:avLst/>
            <a:gdLst/>
            <a:ahLst/>
            <a:rect l="l" t="t" r="r" b="b"/>
            <a:pathLst>
              <a:path w="126" h="155">
                <a:moveTo>
                  <a:pt x="126" y="155"/>
                </a:moveTo>
                <a:lnTo>
                  <a:pt x="0" y="59"/>
                </a:lnTo>
                <a:lnTo>
                  <a:pt x="85" y="90"/>
                </a:lnTo>
                <a:lnTo>
                  <a:pt x="90" y="0"/>
                </a:lnTo>
                <a:lnTo>
                  <a:pt x="126" y="15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952520" y="4325760"/>
            <a:ext cx="568440" cy="1094040"/>
          </a:xfrm>
          <a:prstGeom prst="line">
            <a:avLst/>
          </a:prstGeom>
          <a:ln w="33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5354640" y="1305000"/>
            <a:ext cx="1108080" cy="1738080"/>
          </a:xfrm>
          <a:prstGeom prst="line">
            <a:avLst/>
          </a:prstGeom>
          <a:ln w="33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903920" y="1322280"/>
            <a:ext cx="230040" cy="220680"/>
          </a:xfrm>
          <a:custGeom>
            <a:avLst/>
            <a:gdLst/>
            <a:ahLst/>
            <a:rect l="l" t="t" r="r" b="b"/>
            <a:pathLst>
              <a:path w="145" h="139">
                <a:moveTo>
                  <a:pt x="145" y="0"/>
                </a:moveTo>
                <a:lnTo>
                  <a:pt x="75" y="139"/>
                </a:lnTo>
                <a:lnTo>
                  <a:pt x="90" y="49"/>
                </a:lnTo>
                <a:lnTo>
                  <a:pt x="0" y="62"/>
                </a:lnTo>
                <a:lnTo>
                  <a:pt x="145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951360" y="3543480"/>
            <a:ext cx="233280" cy="220320"/>
          </a:xfrm>
          <a:custGeom>
            <a:avLst/>
            <a:gdLst/>
            <a:ahLst/>
            <a:rect l="l" t="t" r="r" b="b"/>
            <a:pathLst>
              <a:path w="147" h="139">
                <a:moveTo>
                  <a:pt x="147" y="139"/>
                </a:moveTo>
                <a:lnTo>
                  <a:pt x="0" y="82"/>
                </a:lnTo>
                <a:lnTo>
                  <a:pt x="90" y="90"/>
                </a:lnTo>
                <a:lnTo>
                  <a:pt x="69" y="0"/>
                </a:lnTo>
                <a:lnTo>
                  <a:pt x="147" y="13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456000" y="1387080"/>
            <a:ext cx="1574640" cy="1523880"/>
          </a:xfrm>
          <a:prstGeom prst="line">
            <a:avLst/>
          </a:prstGeom>
          <a:ln w="33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22520" y="3092400"/>
            <a:ext cx="658800" cy="577800"/>
          </a:xfrm>
          <a:prstGeom prst="line">
            <a:avLst/>
          </a:prstGeom>
          <a:ln w="33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60160" y="153504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1 0 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836320" y="410832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0 1 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511080" y="3699000"/>
            <a:ext cx="6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0  0 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77720" y="269064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1 1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199840" y="3527280"/>
            <a:ext cx="226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spec 1st, comp final, –V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739200" y="30924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793560" y="325584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1 1 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52560" y="3699000"/>
            <a:ext cx="1095480" cy="75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55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5526"/>
              </a:path>
            </a:pathLst>
          </a:custGeom>
          <a:solidFill>
            <a:srgbClr val="ffffff"/>
          </a:solidFill>
          <a:ln w="33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25320" y="528948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0 0 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571200" y="293688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[1 0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86160" y="2567160"/>
            <a:ext cx="552600" cy="430200"/>
          </a:xfrm>
          <a:custGeom>
            <a:avLst/>
            <a:gdLst/>
            <a:ahLst/>
            <a:rect l="l" t="t" r="r" b="b"/>
            <a:pathLst>
              <a:path w="348" h="271">
                <a:moveTo>
                  <a:pt x="322" y="243"/>
                </a:moveTo>
                <a:lnTo>
                  <a:pt x="294" y="256"/>
                </a:lnTo>
                <a:lnTo>
                  <a:pt x="260" y="264"/>
                </a:lnTo>
                <a:lnTo>
                  <a:pt x="227" y="269"/>
                </a:lnTo>
                <a:lnTo>
                  <a:pt x="193" y="271"/>
                </a:lnTo>
                <a:lnTo>
                  <a:pt x="160" y="269"/>
                </a:lnTo>
                <a:lnTo>
                  <a:pt x="126" y="261"/>
                </a:lnTo>
                <a:lnTo>
                  <a:pt x="98" y="251"/>
                </a:lnTo>
                <a:lnTo>
                  <a:pt x="70" y="238"/>
                </a:lnTo>
                <a:lnTo>
                  <a:pt x="44" y="222"/>
                </a:lnTo>
                <a:lnTo>
                  <a:pt x="26" y="202"/>
                </a:lnTo>
                <a:lnTo>
                  <a:pt x="10" y="181"/>
                </a:lnTo>
                <a:lnTo>
                  <a:pt x="3" y="155"/>
                </a:lnTo>
                <a:lnTo>
                  <a:pt x="0" y="142"/>
                </a:lnTo>
                <a:lnTo>
                  <a:pt x="0" y="129"/>
                </a:lnTo>
                <a:lnTo>
                  <a:pt x="3" y="114"/>
                </a:lnTo>
                <a:lnTo>
                  <a:pt x="8" y="98"/>
                </a:lnTo>
                <a:lnTo>
                  <a:pt x="13" y="85"/>
                </a:lnTo>
                <a:lnTo>
                  <a:pt x="23" y="70"/>
                </a:lnTo>
                <a:lnTo>
                  <a:pt x="34" y="52"/>
                </a:lnTo>
                <a:lnTo>
                  <a:pt x="47" y="36"/>
                </a:lnTo>
                <a:lnTo>
                  <a:pt x="65" y="21"/>
                </a:lnTo>
                <a:lnTo>
                  <a:pt x="85" y="11"/>
                </a:lnTo>
                <a:lnTo>
                  <a:pt x="106" y="3"/>
                </a:lnTo>
                <a:lnTo>
                  <a:pt x="126" y="0"/>
                </a:lnTo>
                <a:lnTo>
                  <a:pt x="152" y="3"/>
                </a:lnTo>
                <a:lnTo>
                  <a:pt x="175" y="5"/>
                </a:lnTo>
                <a:lnTo>
                  <a:pt x="199" y="13"/>
                </a:lnTo>
                <a:lnTo>
                  <a:pt x="222" y="24"/>
                </a:lnTo>
                <a:lnTo>
                  <a:pt x="245" y="34"/>
                </a:lnTo>
                <a:lnTo>
                  <a:pt x="268" y="47"/>
                </a:lnTo>
                <a:lnTo>
                  <a:pt x="289" y="62"/>
                </a:lnTo>
                <a:lnTo>
                  <a:pt x="304" y="78"/>
                </a:lnTo>
                <a:lnTo>
                  <a:pt x="322" y="96"/>
                </a:lnTo>
                <a:lnTo>
                  <a:pt x="333" y="111"/>
                </a:lnTo>
                <a:lnTo>
                  <a:pt x="343" y="129"/>
                </a:lnTo>
                <a:lnTo>
                  <a:pt x="348" y="145"/>
                </a:lnTo>
                <a:lnTo>
                  <a:pt x="322" y="243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86160" y="2567160"/>
            <a:ext cx="511200" cy="430200"/>
          </a:xfrm>
          <a:custGeom>
            <a:avLst/>
            <a:gdLst/>
            <a:ahLst/>
            <a:rect l="l" t="t" r="r" b="b"/>
            <a:pathLst>
              <a:path w="322" h="271">
                <a:moveTo>
                  <a:pt x="322" y="243"/>
                </a:moveTo>
                <a:lnTo>
                  <a:pt x="322" y="243"/>
                </a:lnTo>
                <a:lnTo>
                  <a:pt x="294" y="256"/>
                </a:lnTo>
                <a:lnTo>
                  <a:pt x="260" y="264"/>
                </a:lnTo>
                <a:lnTo>
                  <a:pt x="227" y="269"/>
                </a:lnTo>
                <a:lnTo>
                  <a:pt x="193" y="271"/>
                </a:lnTo>
                <a:lnTo>
                  <a:pt x="160" y="269"/>
                </a:lnTo>
                <a:lnTo>
                  <a:pt x="126" y="261"/>
                </a:lnTo>
                <a:lnTo>
                  <a:pt x="98" y="251"/>
                </a:lnTo>
                <a:lnTo>
                  <a:pt x="70" y="238"/>
                </a:lnTo>
                <a:lnTo>
                  <a:pt x="44" y="222"/>
                </a:lnTo>
                <a:lnTo>
                  <a:pt x="26" y="202"/>
                </a:lnTo>
                <a:lnTo>
                  <a:pt x="10" y="181"/>
                </a:lnTo>
                <a:lnTo>
                  <a:pt x="3" y="155"/>
                </a:lnTo>
                <a:lnTo>
                  <a:pt x="0" y="142"/>
                </a:lnTo>
                <a:lnTo>
                  <a:pt x="0" y="129"/>
                </a:lnTo>
                <a:lnTo>
                  <a:pt x="3" y="114"/>
                </a:lnTo>
                <a:lnTo>
                  <a:pt x="8" y="98"/>
                </a:lnTo>
                <a:lnTo>
                  <a:pt x="13" y="85"/>
                </a:lnTo>
                <a:lnTo>
                  <a:pt x="23" y="70"/>
                </a:lnTo>
                <a:lnTo>
                  <a:pt x="34" y="52"/>
                </a:lnTo>
                <a:lnTo>
                  <a:pt x="47" y="36"/>
                </a:lnTo>
                <a:lnTo>
                  <a:pt x="47" y="36"/>
                </a:lnTo>
                <a:lnTo>
                  <a:pt x="65" y="21"/>
                </a:lnTo>
                <a:lnTo>
                  <a:pt x="85" y="11"/>
                </a:lnTo>
                <a:lnTo>
                  <a:pt x="106" y="3"/>
                </a:lnTo>
                <a:lnTo>
                  <a:pt x="126" y="0"/>
                </a:lnTo>
                <a:lnTo>
                  <a:pt x="152" y="3"/>
                </a:lnTo>
                <a:lnTo>
                  <a:pt x="175" y="5"/>
                </a:lnTo>
                <a:lnTo>
                  <a:pt x="199" y="13"/>
                </a:lnTo>
                <a:lnTo>
                  <a:pt x="222" y="24"/>
                </a:lnTo>
                <a:lnTo>
                  <a:pt x="296" y="93"/>
                </a:lnTo>
              </a:path>
            </a:pathLst>
          </a:custGeom>
          <a:noFill/>
          <a:ln w="33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626000" y="2587680"/>
            <a:ext cx="228600" cy="225360"/>
          </a:xfrm>
          <a:custGeom>
            <a:avLst/>
            <a:gdLst/>
            <a:ahLst/>
            <a:rect l="l" t="t" r="r" b="b"/>
            <a:pathLst>
              <a:path w="144" h="142">
                <a:moveTo>
                  <a:pt x="144" y="142"/>
                </a:moveTo>
                <a:lnTo>
                  <a:pt x="0" y="78"/>
                </a:lnTo>
                <a:lnTo>
                  <a:pt x="90" y="91"/>
                </a:lnTo>
                <a:lnTo>
                  <a:pt x="75" y="0"/>
                </a:lnTo>
                <a:lnTo>
                  <a:pt x="144" y="140"/>
                </a:lnTo>
                <a:lnTo>
                  <a:pt x="144" y="14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04120" y="2481120"/>
            <a:ext cx="236520" cy="622440"/>
          </a:xfrm>
          <a:custGeom>
            <a:avLst/>
            <a:gdLst/>
            <a:ahLst/>
            <a:rect l="l" t="t" r="r" b="b"/>
            <a:pathLst>
              <a:path w="149" h="392">
                <a:moveTo>
                  <a:pt x="28" y="387"/>
                </a:moveTo>
                <a:lnTo>
                  <a:pt x="23" y="369"/>
                </a:lnTo>
                <a:lnTo>
                  <a:pt x="15" y="346"/>
                </a:lnTo>
                <a:lnTo>
                  <a:pt x="10" y="318"/>
                </a:lnTo>
                <a:lnTo>
                  <a:pt x="5" y="284"/>
                </a:lnTo>
                <a:lnTo>
                  <a:pt x="2" y="250"/>
                </a:lnTo>
                <a:lnTo>
                  <a:pt x="0" y="214"/>
                </a:lnTo>
                <a:lnTo>
                  <a:pt x="0" y="178"/>
                </a:lnTo>
                <a:lnTo>
                  <a:pt x="0" y="142"/>
                </a:lnTo>
                <a:lnTo>
                  <a:pt x="5" y="108"/>
                </a:lnTo>
                <a:lnTo>
                  <a:pt x="10" y="78"/>
                </a:lnTo>
                <a:lnTo>
                  <a:pt x="18" y="49"/>
                </a:lnTo>
                <a:lnTo>
                  <a:pt x="31" y="28"/>
                </a:lnTo>
                <a:lnTo>
                  <a:pt x="36" y="18"/>
                </a:lnTo>
                <a:lnTo>
                  <a:pt x="44" y="10"/>
                </a:lnTo>
                <a:lnTo>
                  <a:pt x="51" y="5"/>
                </a:lnTo>
                <a:lnTo>
                  <a:pt x="62" y="3"/>
                </a:lnTo>
                <a:lnTo>
                  <a:pt x="72" y="0"/>
                </a:lnTo>
                <a:lnTo>
                  <a:pt x="82" y="0"/>
                </a:lnTo>
                <a:lnTo>
                  <a:pt x="95" y="3"/>
                </a:lnTo>
                <a:lnTo>
                  <a:pt x="108" y="8"/>
                </a:lnTo>
                <a:lnTo>
                  <a:pt x="124" y="18"/>
                </a:lnTo>
                <a:lnTo>
                  <a:pt x="136" y="36"/>
                </a:lnTo>
                <a:lnTo>
                  <a:pt x="144" y="59"/>
                </a:lnTo>
                <a:lnTo>
                  <a:pt x="149" y="83"/>
                </a:lnTo>
                <a:lnTo>
                  <a:pt x="149" y="114"/>
                </a:lnTo>
                <a:lnTo>
                  <a:pt x="147" y="142"/>
                </a:lnTo>
                <a:lnTo>
                  <a:pt x="142" y="176"/>
                </a:lnTo>
                <a:lnTo>
                  <a:pt x="134" y="209"/>
                </a:lnTo>
                <a:lnTo>
                  <a:pt x="124" y="240"/>
                </a:lnTo>
                <a:lnTo>
                  <a:pt x="113" y="271"/>
                </a:lnTo>
                <a:lnTo>
                  <a:pt x="100" y="302"/>
                </a:lnTo>
                <a:lnTo>
                  <a:pt x="87" y="328"/>
                </a:lnTo>
                <a:lnTo>
                  <a:pt x="72" y="351"/>
                </a:lnTo>
                <a:lnTo>
                  <a:pt x="59" y="372"/>
                </a:lnTo>
                <a:lnTo>
                  <a:pt x="46" y="385"/>
                </a:lnTo>
                <a:lnTo>
                  <a:pt x="33" y="392"/>
                </a:lnTo>
                <a:lnTo>
                  <a:pt x="28" y="387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04120" y="2481120"/>
            <a:ext cx="236520" cy="614520"/>
          </a:xfrm>
          <a:custGeom>
            <a:avLst/>
            <a:gdLst/>
            <a:ahLst/>
            <a:rect l="l" t="t" r="r" b="b"/>
            <a:pathLst>
              <a:path w="149" h="387">
                <a:moveTo>
                  <a:pt x="28" y="387"/>
                </a:moveTo>
                <a:lnTo>
                  <a:pt x="28" y="387"/>
                </a:lnTo>
                <a:lnTo>
                  <a:pt x="23" y="369"/>
                </a:lnTo>
                <a:lnTo>
                  <a:pt x="15" y="346"/>
                </a:lnTo>
                <a:lnTo>
                  <a:pt x="10" y="318"/>
                </a:lnTo>
                <a:lnTo>
                  <a:pt x="5" y="284"/>
                </a:lnTo>
                <a:lnTo>
                  <a:pt x="2" y="250"/>
                </a:lnTo>
                <a:lnTo>
                  <a:pt x="0" y="214"/>
                </a:lnTo>
                <a:lnTo>
                  <a:pt x="0" y="178"/>
                </a:lnTo>
                <a:lnTo>
                  <a:pt x="0" y="142"/>
                </a:lnTo>
                <a:lnTo>
                  <a:pt x="5" y="108"/>
                </a:lnTo>
                <a:lnTo>
                  <a:pt x="10" y="78"/>
                </a:lnTo>
                <a:lnTo>
                  <a:pt x="18" y="49"/>
                </a:lnTo>
                <a:lnTo>
                  <a:pt x="31" y="28"/>
                </a:lnTo>
                <a:lnTo>
                  <a:pt x="36" y="18"/>
                </a:lnTo>
                <a:lnTo>
                  <a:pt x="44" y="10"/>
                </a:lnTo>
                <a:lnTo>
                  <a:pt x="51" y="5"/>
                </a:lnTo>
                <a:lnTo>
                  <a:pt x="62" y="3"/>
                </a:lnTo>
                <a:lnTo>
                  <a:pt x="72" y="0"/>
                </a:lnTo>
                <a:lnTo>
                  <a:pt x="82" y="0"/>
                </a:lnTo>
                <a:lnTo>
                  <a:pt x="95" y="3"/>
                </a:lnTo>
                <a:lnTo>
                  <a:pt x="108" y="8"/>
                </a:lnTo>
                <a:lnTo>
                  <a:pt x="108" y="8"/>
                </a:lnTo>
                <a:lnTo>
                  <a:pt x="124" y="18"/>
                </a:lnTo>
                <a:lnTo>
                  <a:pt x="136" y="36"/>
                </a:lnTo>
                <a:lnTo>
                  <a:pt x="144" y="59"/>
                </a:lnTo>
                <a:lnTo>
                  <a:pt x="149" y="83"/>
                </a:lnTo>
                <a:lnTo>
                  <a:pt x="149" y="114"/>
                </a:lnTo>
                <a:lnTo>
                  <a:pt x="147" y="142"/>
                </a:lnTo>
                <a:lnTo>
                  <a:pt x="142" y="176"/>
                </a:lnTo>
                <a:lnTo>
                  <a:pt x="134" y="209"/>
                </a:lnTo>
                <a:lnTo>
                  <a:pt x="124" y="240"/>
                </a:lnTo>
                <a:lnTo>
                  <a:pt x="69" y="330"/>
                </a:lnTo>
              </a:path>
            </a:pathLst>
          </a:custGeom>
          <a:noFill/>
          <a:ln w="33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68920" y="2874960"/>
            <a:ext cx="192240" cy="246240"/>
          </a:xfrm>
          <a:custGeom>
            <a:avLst/>
            <a:gdLst/>
            <a:ahLst/>
            <a:rect l="l" t="t" r="r" b="b"/>
            <a:pathLst>
              <a:path w="121" h="155">
                <a:moveTo>
                  <a:pt x="3" y="155"/>
                </a:moveTo>
                <a:lnTo>
                  <a:pt x="31" y="0"/>
                </a:lnTo>
                <a:lnTo>
                  <a:pt x="39" y="90"/>
                </a:lnTo>
                <a:lnTo>
                  <a:pt x="121" y="54"/>
                </a:lnTo>
                <a:lnTo>
                  <a:pt x="0" y="155"/>
                </a:lnTo>
                <a:lnTo>
                  <a:pt x="3" y="155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24480" y="3670200"/>
            <a:ext cx="249120" cy="163440"/>
          </a:xfrm>
          <a:custGeom>
            <a:avLst/>
            <a:gdLst/>
            <a:ahLst/>
            <a:rect l="l" t="t" r="r" b="b"/>
            <a:pathLst>
              <a:path w="157" h="103">
                <a:moveTo>
                  <a:pt x="157" y="13"/>
                </a:moveTo>
                <a:lnTo>
                  <a:pt x="28" y="103"/>
                </a:lnTo>
                <a:lnTo>
                  <a:pt x="85" y="31"/>
                </a:lnTo>
                <a:lnTo>
                  <a:pt x="0" y="0"/>
                </a:lnTo>
                <a:lnTo>
                  <a:pt x="157" y="1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44960" y="2178000"/>
            <a:ext cx="453960" cy="738360"/>
          </a:xfrm>
          <a:custGeom>
            <a:avLst/>
            <a:gdLst/>
            <a:ahLst/>
            <a:rect l="l" t="t" r="r" b="b"/>
            <a:pathLst>
              <a:path w="286" h="465">
                <a:moveTo>
                  <a:pt x="83" y="465"/>
                </a:moveTo>
                <a:lnTo>
                  <a:pt x="57" y="441"/>
                </a:lnTo>
                <a:lnTo>
                  <a:pt x="39" y="416"/>
                </a:lnTo>
                <a:lnTo>
                  <a:pt x="23" y="382"/>
                </a:lnTo>
                <a:lnTo>
                  <a:pt x="10" y="346"/>
                </a:lnTo>
                <a:lnTo>
                  <a:pt x="3" y="307"/>
                </a:lnTo>
                <a:lnTo>
                  <a:pt x="0" y="269"/>
                </a:lnTo>
                <a:lnTo>
                  <a:pt x="0" y="227"/>
                </a:lnTo>
                <a:lnTo>
                  <a:pt x="3" y="188"/>
                </a:lnTo>
                <a:lnTo>
                  <a:pt x="13" y="150"/>
                </a:lnTo>
                <a:lnTo>
                  <a:pt x="26" y="114"/>
                </a:lnTo>
                <a:lnTo>
                  <a:pt x="41" y="83"/>
                </a:lnTo>
                <a:lnTo>
                  <a:pt x="62" y="54"/>
                </a:lnTo>
                <a:lnTo>
                  <a:pt x="88" y="31"/>
                </a:lnTo>
                <a:lnTo>
                  <a:pt x="119" y="13"/>
                </a:lnTo>
                <a:lnTo>
                  <a:pt x="134" y="8"/>
                </a:lnTo>
                <a:lnTo>
                  <a:pt x="152" y="3"/>
                </a:lnTo>
                <a:lnTo>
                  <a:pt x="170" y="0"/>
                </a:lnTo>
                <a:lnTo>
                  <a:pt x="188" y="3"/>
                </a:lnTo>
                <a:lnTo>
                  <a:pt x="209" y="3"/>
                </a:lnTo>
                <a:lnTo>
                  <a:pt x="224" y="8"/>
                </a:lnTo>
                <a:lnTo>
                  <a:pt x="240" y="13"/>
                </a:lnTo>
                <a:lnTo>
                  <a:pt x="253" y="21"/>
                </a:lnTo>
                <a:lnTo>
                  <a:pt x="263" y="31"/>
                </a:lnTo>
                <a:lnTo>
                  <a:pt x="271" y="41"/>
                </a:lnTo>
                <a:lnTo>
                  <a:pt x="276" y="52"/>
                </a:lnTo>
                <a:lnTo>
                  <a:pt x="281" y="65"/>
                </a:lnTo>
                <a:lnTo>
                  <a:pt x="286" y="93"/>
                </a:lnTo>
                <a:lnTo>
                  <a:pt x="284" y="124"/>
                </a:lnTo>
                <a:lnTo>
                  <a:pt x="278" y="158"/>
                </a:lnTo>
                <a:lnTo>
                  <a:pt x="268" y="194"/>
                </a:lnTo>
                <a:lnTo>
                  <a:pt x="255" y="230"/>
                </a:lnTo>
                <a:lnTo>
                  <a:pt x="240" y="263"/>
                </a:lnTo>
                <a:lnTo>
                  <a:pt x="224" y="297"/>
                </a:lnTo>
                <a:lnTo>
                  <a:pt x="206" y="330"/>
                </a:lnTo>
                <a:lnTo>
                  <a:pt x="191" y="359"/>
                </a:lnTo>
                <a:lnTo>
                  <a:pt x="175" y="382"/>
                </a:lnTo>
                <a:lnTo>
                  <a:pt x="165" y="400"/>
                </a:lnTo>
                <a:lnTo>
                  <a:pt x="155" y="416"/>
                </a:lnTo>
                <a:lnTo>
                  <a:pt x="83" y="465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4265640" y="3706560"/>
            <a:ext cx="376200" cy="106200"/>
          </a:xfrm>
          <a:prstGeom prst="line">
            <a:avLst/>
          </a:prstGeom>
          <a:ln w="33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44960" y="2178000"/>
            <a:ext cx="453960" cy="738360"/>
          </a:xfrm>
          <a:custGeom>
            <a:avLst/>
            <a:gdLst/>
            <a:ahLst/>
            <a:rect l="l" t="t" r="r" b="b"/>
            <a:pathLst>
              <a:path w="286" h="465">
                <a:moveTo>
                  <a:pt x="83" y="465"/>
                </a:moveTo>
                <a:lnTo>
                  <a:pt x="83" y="465"/>
                </a:lnTo>
                <a:lnTo>
                  <a:pt x="57" y="441"/>
                </a:lnTo>
                <a:lnTo>
                  <a:pt x="39" y="416"/>
                </a:lnTo>
                <a:lnTo>
                  <a:pt x="23" y="382"/>
                </a:lnTo>
                <a:lnTo>
                  <a:pt x="10" y="346"/>
                </a:lnTo>
                <a:lnTo>
                  <a:pt x="3" y="307"/>
                </a:lnTo>
                <a:lnTo>
                  <a:pt x="0" y="269"/>
                </a:lnTo>
                <a:lnTo>
                  <a:pt x="0" y="227"/>
                </a:lnTo>
                <a:lnTo>
                  <a:pt x="3" y="188"/>
                </a:lnTo>
                <a:lnTo>
                  <a:pt x="13" y="150"/>
                </a:lnTo>
                <a:lnTo>
                  <a:pt x="26" y="114"/>
                </a:lnTo>
                <a:lnTo>
                  <a:pt x="41" y="83"/>
                </a:lnTo>
                <a:lnTo>
                  <a:pt x="62" y="54"/>
                </a:lnTo>
                <a:lnTo>
                  <a:pt x="88" y="31"/>
                </a:lnTo>
                <a:lnTo>
                  <a:pt x="119" y="13"/>
                </a:lnTo>
                <a:lnTo>
                  <a:pt x="134" y="8"/>
                </a:lnTo>
                <a:lnTo>
                  <a:pt x="152" y="3"/>
                </a:lnTo>
                <a:lnTo>
                  <a:pt x="170" y="0"/>
                </a:lnTo>
                <a:lnTo>
                  <a:pt x="188" y="3"/>
                </a:lnTo>
                <a:lnTo>
                  <a:pt x="188" y="3"/>
                </a:lnTo>
                <a:lnTo>
                  <a:pt x="209" y="3"/>
                </a:lnTo>
                <a:lnTo>
                  <a:pt x="224" y="8"/>
                </a:lnTo>
                <a:lnTo>
                  <a:pt x="240" y="13"/>
                </a:lnTo>
                <a:lnTo>
                  <a:pt x="253" y="21"/>
                </a:lnTo>
                <a:lnTo>
                  <a:pt x="263" y="31"/>
                </a:lnTo>
                <a:lnTo>
                  <a:pt x="271" y="41"/>
                </a:lnTo>
                <a:lnTo>
                  <a:pt x="276" y="52"/>
                </a:lnTo>
                <a:lnTo>
                  <a:pt x="281" y="65"/>
                </a:lnTo>
                <a:lnTo>
                  <a:pt x="286" y="93"/>
                </a:lnTo>
                <a:lnTo>
                  <a:pt x="284" y="124"/>
                </a:lnTo>
                <a:lnTo>
                  <a:pt x="278" y="158"/>
                </a:lnTo>
                <a:lnTo>
                  <a:pt x="268" y="194"/>
                </a:lnTo>
                <a:lnTo>
                  <a:pt x="255" y="230"/>
                </a:lnTo>
                <a:lnTo>
                  <a:pt x="240" y="263"/>
                </a:lnTo>
                <a:lnTo>
                  <a:pt x="191" y="351"/>
                </a:lnTo>
              </a:path>
            </a:pathLst>
          </a:custGeom>
          <a:noFill/>
          <a:ln w="33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406680" y="2604960"/>
            <a:ext cx="189000" cy="249480"/>
          </a:xfrm>
          <a:custGeom>
            <a:avLst/>
            <a:gdLst/>
            <a:ahLst/>
            <a:rect l="l" t="t" r="r" b="b"/>
            <a:pathLst>
              <a:path w="119" h="157">
                <a:moveTo>
                  <a:pt x="0" y="157"/>
                </a:moveTo>
                <a:lnTo>
                  <a:pt x="23" y="0"/>
                </a:lnTo>
                <a:lnTo>
                  <a:pt x="34" y="90"/>
                </a:lnTo>
                <a:lnTo>
                  <a:pt x="119" y="51"/>
                </a:lnTo>
                <a:lnTo>
                  <a:pt x="0" y="154"/>
                </a:lnTo>
                <a:lnTo>
                  <a:pt x="0" y="15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21160" y="936720"/>
            <a:ext cx="581040" cy="323640"/>
          </a:xfrm>
          <a:custGeom>
            <a:avLst/>
            <a:gdLst/>
            <a:ahLst/>
            <a:rect l="l" t="t" r="r" b="b"/>
            <a:pathLst>
              <a:path w="366" h="204">
                <a:moveTo>
                  <a:pt x="0" y="168"/>
                </a:moveTo>
                <a:lnTo>
                  <a:pt x="13" y="155"/>
                </a:lnTo>
                <a:lnTo>
                  <a:pt x="28" y="137"/>
                </a:lnTo>
                <a:lnTo>
                  <a:pt x="44" y="119"/>
                </a:lnTo>
                <a:lnTo>
                  <a:pt x="65" y="98"/>
                </a:lnTo>
                <a:lnTo>
                  <a:pt x="85" y="77"/>
                </a:lnTo>
                <a:lnTo>
                  <a:pt x="108" y="57"/>
                </a:lnTo>
                <a:lnTo>
                  <a:pt x="132" y="39"/>
                </a:lnTo>
                <a:lnTo>
                  <a:pt x="157" y="23"/>
                </a:lnTo>
                <a:lnTo>
                  <a:pt x="183" y="10"/>
                </a:lnTo>
                <a:lnTo>
                  <a:pt x="209" y="3"/>
                </a:lnTo>
                <a:lnTo>
                  <a:pt x="235" y="0"/>
                </a:lnTo>
                <a:lnTo>
                  <a:pt x="260" y="3"/>
                </a:lnTo>
                <a:lnTo>
                  <a:pt x="273" y="5"/>
                </a:lnTo>
                <a:lnTo>
                  <a:pt x="286" y="13"/>
                </a:lnTo>
                <a:lnTo>
                  <a:pt x="299" y="18"/>
                </a:lnTo>
                <a:lnTo>
                  <a:pt x="312" y="28"/>
                </a:lnTo>
                <a:lnTo>
                  <a:pt x="322" y="39"/>
                </a:lnTo>
                <a:lnTo>
                  <a:pt x="335" y="54"/>
                </a:lnTo>
                <a:lnTo>
                  <a:pt x="345" y="70"/>
                </a:lnTo>
                <a:lnTo>
                  <a:pt x="358" y="88"/>
                </a:lnTo>
                <a:lnTo>
                  <a:pt x="363" y="98"/>
                </a:lnTo>
                <a:lnTo>
                  <a:pt x="366" y="108"/>
                </a:lnTo>
                <a:lnTo>
                  <a:pt x="366" y="116"/>
                </a:lnTo>
                <a:lnTo>
                  <a:pt x="366" y="124"/>
                </a:lnTo>
                <a:lnTo>
                  <a:pt x="358" y="139"/>
                </a:lnTo>
                <a:lnTo>
                  <a:pt x="345" y="152"/>
                </a:lnTo>
                <a:lnTo>
                  <a:pt x="327" y="163"/>
                </a:lnTo>
                <a:lnTo>
                  <a:pt x="304" y="170"/>
                </a:lnTo>
                <a:lnTo>
                  <a:pt x="278" y="178"/>
                </a:lnTo>
                <a:lnTo>
                  <a:pt x="250" y="183"/>
                </a:lnTo>
                <a:lnTo>
                  <a:pt x="219" y="186"/>
                </a:lnTo>
                <a:lnTo>
                  <a:pt x="191" y="191"/>
                </a:lnTo>
                <a:lnTo>
                  <a:pt x="160" y="194"/>
                </a:lnTo>
                <a:lnTo>
                  <a:pt x="129" y="196"/>
                </a:lnTo>
                <a:lnTo>
                  <a:pt x="103" y="199"/>
                </a:lnTo>
                <a:lnTo>
                  <a:pt x="80" y="199"/>
                </a:lnTo>
                <a:lnTo>
                  <a:pt x="59" y="201"/>
                </a:lnTo>
                <a:lnTo>
                  <a:pt x="44" y="204"/>
                </a:lnTo>
                <a:lnTo>
                  <a:pt x="0" y="168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21160" y="936720"/>
            <a:ext cx="581040" cy="311040"/>
          </a:xfrm>
          <a:custGeom>
            <a:avLst/>
            <a:gdLst/>
            <a:ahLst/>
            <a:rect l="l" t="t" r="r" b="b"/>
            <a:pathLst>
              <a:path w="366" h="196">
                <a:moveTo>
                  <a:pt x="0" y="168"/>
                </a:moveTo>
                <a:lnTo>
                  <a:pt x="0" y="168"/>
                </a:lnTo>
                <a:lnTo>
                  <a:pt x="13" y="155"/>
                </a:lnTo>
                <a:lnTo>
                  <a:pt x="28" y="137"/>
                </a:lnTo>
                <a:lnTo>
                  <a:pt x="44" y="119"/>
                </a:lnTo>
                <a:lnTo>
                  <a:pt x="65" y="98"/>
                </a:lnTo>
                <a:lnTo>
                  <a:pt x="85" y="77"/>
                </a:lnTo>
                <a:lnTo>
                  <a:pt x="108" y="57"/>
                </a:lnTo>
                <a:lnTo>
                  <a:pt x="132" y="39"/>
                </a:lnTo>
                <a:lnTo>
                  <a:pt x="157" y="23"/>
                </a:lnTo>
                <a:lnTo>
                  <a:pt x="183" y="10"/>
                </a:lnTo>
                <a:lnTo>
                  <a:pt x="209" y="3"/>
                </a:lnTo>
                <a:lnTo>
                  <a:pt x="235" y="0"/>
                </a:lnTo>
                <a:lnTo>
                  <a:pt x="260" y="3"/>
                </a:lnTo>
                <a:lnTo>
                  <a:pt x="273" y="5"/>
                </a:lnTo>
                <a:lnTo>
                  <a:pt x="286" y="13"/>
                </a:lnTo>
                <a:lnTo>
                  <a:pt x="299" y="18"/>
                </a:lnTo>
                <a:lnTo>
                  <a:pt x="312" y="28"/>
                </a:lnTo>
                <a:lnTo>
                  <a:pt x="322" y="39"/>
                </a:lnTo>
                <a:lnTo>
                  <a:pt x="335" y="54"/>
                </a:lnTo>
                <a:lnTo>
                  <a:pt x="345" y="70"/>
                </a:lnTo>
                <a:lnTo>
                  <a:pt x="358" y="88"/>
                </a:lnTo>
                <a:lnTo>
                  <a:pt x="358" y="88"/>
                </a:lnTo>
                <a:lnTo>
                  <a:pt x="363" y="98"/>
                </a:lnTo>
                <a:lnTo>
                  <a:pt x="366" y="108"/>
                </a:lnTo>
                <a:lnTo>
                  <a:pt x="366" y="116"/>
                </a:lnTo>
                <a:lnTo>
                  <a:pt x="366" y="124"/>
                </a:lnTo>
                <a:lnTo>
                  <a:pt x="358" y="139"/>
                </a:lnTo>
                <a:lnTo>
                  <a:pt x="345" y="152"/>
                </a:lnTo>
                <a:lnTo>
                  <a:pt x="327" y="163"/>
                </a:lnTo>
                <a:lnTo>
                  <a:pt x="304" y="170"/>
                </a:lnTo>
                <a:lnTo>
                  <a:pt x="278" y="178"/>
                </a:lnTo>
                <a:lnTo>
                  <a:pt x="250" y="183"/>
                </a:lnTo>
                <a:lnTo>
                  <a:pt x="219" y="186"/>
                </a:lnTo>
                <a:lnTo>
                  <a:pt x="116" y="196"/>
                </a:lnTo>
              </a:path>
            </a:pathLst>
          </a:custGeom>
          <a:noFill/>
          <a:ln w="33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403960" y="1165320"/>
            <a:ext cx="241200" cy="168120"/>
          </a:xfrm>
          <a:custGeom>
            <a:avLst/>
            <a:gdLst/>
            <a:ahLst/>
            <a:rect l="l" t="t" r="r" b="b"/>
            <a:pathLst>
              <a:path w="152" h="106">
                <a:moveTo>
                  <a:pt x="2" y="70"/>
                </a:moveTo>
                <a:lnTo>
                  <a:pt x="141" y="0"/>
                </a:lnTo>
                <a:lnTo>
                  <a:pt x="74" y="62"/>
                </a:lnTo>
                <a:lnTo>
                  <a:pt x="152" y="106"/>
                </a:lnTo>
                <a:lnTo>
                  <a:pt x="0" y="70"/>
                </a:lnTo>
                <a:lnTo>
                  <a:pt x="2" y="7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694480" y="4248000"/>
            <a:ext cx="485640" cy="532080"/>
          </a:xfrm>
          <a:custGeom>
            <a:avLst/>
            <a:gdLst/>
            <a:ahLst/>
            <a:rect l="l" t="t" r="r" b="b"/>
            <a:pathLst>
              <a:path w="306" h="335">
                <a:moveTo>
                  <a:pt x="0" y="15"/>
                </a:moveTo>
                <a:lnTo>
                  <a:pt x="10" y="33"/>
                </a:lnTo>
                <a:lnTo>
                  <a:pt x="18" y="59"/>
                </a:lnTo>
                <a:lnTo>
                  <a:pt x="28" y="85"/>
                </a:lnTo>
                <a:lnTo>
                  <a:pt x="38" y="113"/>
                </a:lnTo>
                <a:lnTo>
                  <a:pt x="49" y="144"/>
                </a:lnTo>
                <a:lnTo>
                  <a:pt x="59" y="175"/>
                </a:lnTo>
                <a:lnTo>
                  <a:pt x="69" y="206"/>
                </a:lnTo>
                <a:lnTo>
                  <a:pt x="82" y="234"/>
                </a:lnTo>
                <a:lnTo>
                  <a:pt x="95" y="260"/>
                </a:lnTo>
                <a:lnTo>
                  <a:pt x="110" y="286"/>
                </a:lnTo>
                <a:lnTo>
                  <a:pt x="126" y="307"/>
                </a:lnTo>
                <a:lnTo>
                  <a:pt x="144" y="322"/>
                </a:lnTo>
                <a:lnTo>
                  <a:pt x="162" y="333"/>
                </a:lnTo>
                <a:lnTo>
                  <a:pt x="185" y="335"/>
                </a:lnTo>
                <a:lnTo>
                  <a:pt x="195" y="335"/>
                </a:lnTo>
                <a:lnTo>
                  <a:pt x="208" y="333"/>
                </a:lnTo>
                <a:lnTo>
                  <a:pt x="221" y="330"/>
                </a:lnTo>
                <a:lnTo>
                  <a:pt x="234" y="322"/>
                </a:lnTo>
                <a:lnTo>
                  <a:pt x="252" y="312"/>
                </a:lnTo>
                <a:lnTo>
                  <a:pt x="268" y="299"/>
                </a:lnTo>
                <a:lnTo>
                  <a:pt x="281" y="289"/>
                </a:lnTo>
                <a:lnTo>
                  <a:pt x="288" y="273"/>
                </a:lnTo>
                <a:lnTo>
                  <a:pt x="296" y="260"/>
                </a:lnTo>
                <a:lnTo>
                  <a:pt x="301" y="245"/>
                </a:lnTo>
                <a:lnTo>
                  <a:pt x="304" y="232"/>
                </a:lnTo>
                <a:lnTo>
                  <a:pt x="306" y="216"/>
                </a:lnTo>
                <a:lnTo>
                  <a:pt x="304" y="201"/>
                </a:lnTo>
                <a:lnTo>
                  <a:pt x="301" y="185"/>
                </a:lnTo>
                <a:lnTo>
                  <a:pt x="296" y="170"/>
                </a:lnTo>
                <a:lnTo>
                  <a:pt x="291" y="154"/>
                </a:lnTo>
                <a:lnTo>
                  <a:pt x="273" y="123"/>
                </a:lnTo>
                <a:lnTo>
                  <a:pt x="250" y="95"/>
                </a:lnTo>
                <a:lnTo>
                  <a:pt x="224" y="67"/>
                </a:lnTo>
                <a:lnTo>
                  <a:pt x="195" y="43"/>
                </a:lnTo>
                <a:lnTo>
                  <a:pt x="165" y="25"/>
                </a:lnTo>
                <a:lnTo>
                  <a:pt x="134" y="10"/>
                </a:lnTo>
                <a:lnTo>
                  <a:pt x="100" y="2"/>
                </a:lnTo>
                <a:lnTo>
                  <a:pt x="69" y="0"/>
                </a:lnTo>
                <a:lnTo>
                  <a:pt x="54" y="2"/>
                </a:lnTo>
                <a:lnTo>
                  <a:pt x="38" y="5"/>
                </a:lnTo>
                <a:lnTo>
                  <a:pt x="25" y="12"/>
                </a:lnTo>
                <a:lnTo>
                  <a:pt x="10" y="20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694480" y="4272120"/>
            <a:ext cx="485640" cy="507960"/>
          </a:xfrm>
          <a:custGeom>
            <a:avLst/>
            <a:gdLst/>
            <a:ahLst/>
            <a:rect l="l" t="t" r="r" b="b"/>
            <a:pathLst>
              <a:path w="306" h="320">
                <a:moveTo>
                  <a:pt x="0" y="0"/>
                </a:moveTo>
                <a:lnTo>
                  <a:pt x="0" y="0"/>
                </a:lnTo>
                <a:lnTo>
                  <a:pt x="10" y="18"/>
                </a:lnTo>
                <a:lnTo>
                  <a:pt x="18" y="44"/>
                </a:lnTo>
                <a:lnTo>
                  <a:pt x="28" y="70"/>
                </a:lnTo>
                <a:lnTo>
                  <a:pt x="38" y="98"/>
                </a:lnTo>
                <a:lnTo>
                  <a:pt x="49" y="129"/>
                </a:lnTo>
                <a:lnTo>
                  <a:pt x="59" y="160"/>
                </a:lnTo>
                <a:lnTo>
                  <a:pt x="69" y="191"/>
                </a:lnTo>
                <a:lnTo>
                  <a:pt x="82" y="219"/>
                </a:lnTo>
                <a:lnTo>
                  <a:pt x="95" y="245"/>
                </a:lnTo>
                <a:lnTo>
                  <a:pt x="110" y="271"/>
                </a:lnTo>
                <a:lnTo>
                  <a:pt x="126" y="292"/>
                </a:lnTo>
                <a:lnTo>
                  <a:pt x="144" y="307"/>
                </a:lnTo>
                <a:lnTo>
                  <a:pt x="162" y="318"/>
                </a:lnTo>
                <a:lnTo>
                  <a:pt x="185" y="320"/>
                </a:lnTo>
                <a:lnTo>
                  <a:pt x="195" y="320"/>
                </a:lnTo>
                <a:lnTo>
                  <a:pt x="208" y="318"/>
                </a:lnTo>
                <a:lnTo>
                  <a:pt x="221" y="315"/>
                </a:lnTo>
                <a:lnTo>
                  <a:pt x="234" y="307"/>
                </a:lnTo>
                <a:lnTo>
                  <a:pt x="234" y="307"/>
                </a:lnTo>
                <a:lnTo>
                  <a:pt x="252" y="297"/>
                </a:lnTo>
                <a:lnTo>
                  <a:pt x="268" y="284"/>
                </a:lnTo>
                <a:lnTo>
                  <a:pt x="281" y="274"/>
                </a:lnTo>
                <a:lnTo>
                  <a:pt x="288" y="258"/>
                </a:lnTo>
                <a:lnTo>
                  <a:pt x="296" y="245"/>
                </a:lnTo>
                <a:lnTo>
                  <a:pt x="301" y="230"/>
                </a:lnTo>
                <a:lnTo>
                  <a:pt x="304" y="217"/>
                </a:lnTo>
                <a:lnTo>
                  <a:pt x="306" y="201"/>
                </a:lnTo>
                <a:lnTo>
                  <a:pt x="304" y="186"/>
                </a:lnTo>
                <a:lnTo>
                  <a:pt x="301" y="170"/>
                </a:lnTo>
                <a:lnTo>
                  <a:pt x="296" y="155"/>
                </a:lnTo>
                <a:lnTo>
                  <a:pt x="291" y="139"/>
                </a:lnTo>
                <a:lnTo>
                  <a:pt x="273" y="108"/>
                </a:lnTo>
                <a:lnTo>
                  <a:pt x="250" y="80"/>
                </a:lnTo>
                <a:lnTo>
                  <a:pt x="224" y="52"/>
                </a:lnTo>
                <a:lnTo>
                  <a:pt x="195" y="28"/>
                </a:lnTo>
                <a:lnTo>
                  <a:pt x="85" y="13"/>
                </a:lnTo>
              </a:path>
            </a:pathLst>
          </a:custGeom>
          <a:noFill/>
          <a:ln w="334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26160" y="4235400"/>
            <a:ext cx="241200" cy="171360"/>
          </a:xfrm>
          <a:custGeom>
            <a:avLst/>
            <a:gdLst/>
            <a:ahLst/>
            <a:rect l="l" t="t" r="r" b="b"/>
            <a:pathLst>
              <a:path w="152" h="108">
                <a:moveTo>
                  <a:pt x="0" y="39"/>
                </a:moveTo>
                <a:lnTo>
                  <a:pt x="152" y="0"/>
                </a:lnTo>
                <a:lnTo>
                  <a:pt x="72" y="46"/>
                </a:lnTo>
                <a:lnTo>
                  <a:pt x="139" y="108"/>
                </a:lnTo>
                <a:lnTo>
                  <a:pt x="0" y="36"/>
                </a:lnTo>
                <a:lnTo>
                  <a:pt x="0" y="3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488400" y="201132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1/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61880" y="87948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1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62680" y="1814400"/>
            <a:ext cx="3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05800" y="1944720"/>
            <a:ext cx="3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665760" y="23875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525920" y="250200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67280" y="292104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032080" y="314172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755880" y="427212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64520" y="3246480"/>
            <a:ext cx="3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227640" y="442908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506920" y="374004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003640" y="43624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03480" y="618156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/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16840" y="4797360"/>
            <a:ext cx="3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18560" y="3592440"/>
            <a:ext cx="3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13680" y="334656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170600" y="4748040"/>
            <a:ext cx="3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/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51640" y="4683240"/>
            <a:ext cx="3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/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1344600"/>
                <a:tab algn="l" pos="2689200"/>
                <a:tab algn="l" pos="4033800"/>
                <a:tab algn="l" pos="5378400"/>
                <a:tab algn="l" pos="6723000"/>
                <a:tab algn="l" pos="8067600"/>
                <a:tab algn="l" pos="9412200"/>
                <a:tab algn="l" pos="107568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Ringstrass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5410080" y="556272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638680" y="556272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867280" y="5562720"/>
            <a:ext cx="22860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48120" y="3429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276720" y="3429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505320" y="3429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990720" y="914400"/>
          <a:ext cx="7543800" cy="53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75438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LA,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ability depends on start state we are 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some ‘sink’ states – no esc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calculate average time of convergence in terms of # of examples (‘maturation time’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LA,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‘no good’ states – not learn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what can learner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olution: don’t use greedy, local algorith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that if you can flip more than 1 switch at a time – no sink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0" name=""/>
          <p:cNvGraphicFramePr/>
          <p:nvPr/>
        </p:nvGraphicFramePr>
        <p:xfrm>
          <a:off x="685800" y="533520"/>
          <a:ext cx="7772400" cy="58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7772400" cy="58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meter space of langu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201680" y="1824120"/>
          <a:ext cx="6730920" cy="32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1824120"/>
                    <a:ext cx="673092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illogical problem of language chan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104480" y="1843200"/>
            <a:ext cx="4906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Langagis, whos reulis ben not writen as 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75000" y="184320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4120" y="2173320"/>
            <a:ext cx="5683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Englisch, Frensch and many otheres, ben channg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54560" y="21733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04480" y="2503440"/>
            <a:ext cx="5636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withynne yeeris and countrees that oon man of t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60960" y="250344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03400" y="2833560"/>
            <a:ext cx="534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oon cuntre, and of the oon tyme, myghte not,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54520" y="28335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03400" y="3164040"/>
            <a:ext cx="565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schulde not kunne undirstonde a man of the ot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21440" y="316404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05200" y="3494160"/>
            <a:ext cx="5622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kuntre, and of the othere tyme; and al for this, th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81400" y="349416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4120" y="3827520"/>
            <a:ext cx="5535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the seid langagis ben not stabili and fondament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7120" y="38275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6640" y="4157640"/>
            <a:ext cx="713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wri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30320" y="41576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05920" y="4602240"/>
            <a:ext cx="169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31721"/>
                </a:solidFill>
                <a:latin typeface="Times New Roman"/>
              </a:rPr>
              <a:t>Pecock (1454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7760" y="4602240"/>
            <a:ext cx="1523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31721"/>
                </a:solidFill>
                <a:latin typeface="Times New Roman"/>
              </a:rPr>
              <a:t>Book of Fe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5" name=""/>
          <p:cNvGraphicFramePr/>
          <p:nvPr/>
        </p:nvGraphicFramePr>
        <p:xfrm>
          <a:off x="990720" y="914400"/>
          <a:ext cx="723888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723888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142640" y="-381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# of examples to hit the targ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7486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arning with 24 paramet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507960" y="1447920"/>
            <a:ext cx="8128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727200" y="1824120"/>
            <a:ext cx="7805520" cy="40860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t…what’s a symbol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ochastic extensions/Gold complaints &amp; positive resul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handle statistical case – rules are stochastic – so the ‘text’ the learner gets is stochastic (some distribution spits it out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know how language is generated then  it helps you learn what language is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of sentence from guessed L is like negative evidence: although approximate, can be used to reject guess (“indirect negative evidence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sults for stochastic cas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evidence: really nee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text (enough sampling over negative examples s.t. child can really know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don’t know the distribution – you lose – estimating a density function is ev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a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n approximating function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ha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ery stro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aints on distribution functions to be drawn from the language family, then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arn fsa’s, cfg’s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onstraint is that the learner knows a function d, s.t. after seeing at least d(n) examples, learner knows what membership of each example sentence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quence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wer of Gold resul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about information theory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from strings to mea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gative evidence: really need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text (enough sampling over negative examples s.t. child can really know i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tistical learning theory approach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s most of the assumptions of the Gold framework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oes not ask for convergence to exactly the righ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earner receives positive and negativ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earning process has to end after a certain number of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 bounds on the # of examples sentences needed to converge with high prob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remove assumption of arbitrary resources: efficient (poly time) [Valiant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tistical learning theory goes further – but same resul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s defined as befo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1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.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provided by some distribu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et of all sent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ances between languages defined as well by the probability measu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 baseline="-14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 baseline="-14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ability definition: now 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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arnability in statistical framewo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 drawn random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ts, learner conjectures hypothes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14000">
                <a:solidFill>
                  <a:srgbClr val="000000"/>
                </a:solidFill>
                <a:latin typeface="Times New Roman"/>
              </a:rPr>
              <a:t>l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b this is now a random variable, because it depends on the randomly genera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fn: Learner’s hypothes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14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nver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target (1</a:t>
            </a:r>
            <a:r>
              <a:rPr b="0" i="1" lang="en-US" sz="2800" spc="-1" strike="noStrike" baseline="-14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ith probability 1, if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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4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14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14000">
                <a:solidFill>
                  <a:srgbClr val="000000"/>
                </a:solidFill>
                <a:latin typeface="Times New Roman"/>
              </a:rPr>
              <a:t>l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800" spc="-1" strike="noStrike" baseline="-14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 baseline="-12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not known to the learner except through the dra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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form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ormation need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ghly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given info + new info (data) has to pick out right language (gramm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we all spoke just 1 language – nothing to decide – no data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just spoke 2 languages (eg, Japanese, English), differing in just 1 bit, 1 piece of data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bout the general ca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ndard” PAC formul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14000">
                <a:solidFill>
                  <a:srgbClr val="000000"/>
                </a:solidFill>
                <a:latin typeface="Times New Roman"/>
              </a:rPr>
              <a:t>l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ges to the target 1</a:t>
            </a:r>
            <a:r>
              <a:rPr b="0" i="1" lang="en-US" sz="3200" spc="-1" strike="noStrike" baseline="-16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weak sense, then for ever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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exist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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.t.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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14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3200" spc="-1" strike="noStrike" baseline="-16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&l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igh prob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&gt;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he learner’s hypothesi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pproximately cl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with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is norm) to the target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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ample complexit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in result: VC dimension finite = learnab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pnik-Cheronenkis result – VC-dimen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of languages is learnable iff it h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inite VC-dimen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Coron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onet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collection of languages; </a:t>
            </a:r>
            <a:r>
              <a:rPr b="0" lang="en-US" sz="3200" spc="-1" strike="noStrike">
                <a:solidFill>
                  <a:srgbClr val="000000"/>
                </a:solidFill>
                <a:latin typeface="Coronet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ypothe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gives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up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ow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ounds on the # of example sentences you need to get with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probabil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VC-dimens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VC dimen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over a set of functions </a:t>
            </a:r>
            <a:r>
              <a:rPr b="0" lang="en-US" sz="3200" spc="-1" strike="noStrike">
                <a:solidFill>
                  <a:srgbClr val="000000"/>
                </a:solidFill>
                <a:latin typeface="Coronet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there exists at least one set of cardinal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can be shattered and no set of cardinality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can be shattered by </a:t>
            </a:r>
            <a:r>
              <a:rPr b="0" lang="en-US" sz="3200" spc="-1" strike="noStrike">
                <a:solidFill>
                  <a:srgbClr val="000000"/>
                </a:solidFill>
                <a:latin typeface="Coronet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VC-dimension of </a:t>
            </a:r>
            <a:r>
              <a:rPr b="0" lang="en-US" sz="3200" spc="-1" strike="noStrike">
                <a:solidFill>
                  <a:srgbClr val="000000"/>
                </a:solidFill>
                <a:latin typeface="Coronet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no such set exists, then VC-dimension is infin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arnability and VC dimen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of all finite languages is unlearnable in PAC frame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of all fsa’s, cfg’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also g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ou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# of examples needed to learn, if VC-dim is fin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d8d"/>
                </a:solidFill>
                <a:latin typeface="CMBX10"/>
              </a:rPr>
              <a:t>A subset </a:t>
            </a:r>
            <a:r>
              <a:rPr b="0" i="1" lang="en-US" sz="3200" spc="-1" strike="noStrike">
                <a:solidFill>
                  <a:srgbClr val="008d8d"/>
                </a:solidFill>
                <a:latin typeface="CMMI10"/>
              </a:rPr>
              <a:t>X </a:t>
            </a:r>
            <a:r>
              <a:rPr b="0" i="1" lang="en-US" sz="3200" spc="-1" strike="noStrike">
                <a:solidFill>
                  <a:srgbClr val="008d8d"/>
                </a:solidFill>
                <a:latin typeface="CMSY10"/>
              </a:rPr>
              <a:t>½ U </a:t>
            </a:r>
            <a:r>
              <a:rPr b="0" lang="en-US" sz="3200" spc="-1" strike="noStrike">
                <a:solidFill>
                  <a:srgbClr val="008d8d"/>
                </a:solidFill>
                <a:latin typeface="CMBX10"/>
              </a:rPr>
              <a:t>is </a:t>
            </a:r>
            <a:r>
              <a:rPr b="0" lang="en-US" sz="3200" spc="-1" strike="noStrike">
                <a:solidFill>
                  <a:srgbClr val="cd00cd"/>
                </a:solidFill>
                <a:latin typeface="CMBX10"/>
              </a:rPr>
              <a:t>shattered </a:t>
            </a:r>
            <a:r>
              <a:rPr b="0" lang="en-US" sz="3200" spc="-1" strike="noStrike">
                <a:solidFill>
                  <a:srgbClr val="008d8d"/>
                </a:solidFill>
                <a:latin typeface="CMBX10"/>
              </a:rPr>
              <a:t>by </a:t>
            </a:r>
            <a:r>
              <a:rPr b="0" i="1" lang="en-US" sz="3200" spc="-1" strike="noStrike">
                <a:solidFill>
                  <a:srgbClr val="008d8d"/>
                </a:solidFill>
                <a:latin typeface="CMSY10"/>
              </a:rPr>
              <a:t>R </a:t>
            </a:r>
            <a:r>
              <a:rPr b="0" lang="en-US" sz="3200" spc="-1" strike="noStrike">
                <a:solidFill>
                  <a:srgbClr val="008d8d"/>
                </a:solidFill>
                <a:latin typeface="CMBX10"/>
              </a:rPr>
              <a:t>if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d8d"/>
                </a:solidFill>
                <a:latin typeface="CMBX10"/>
              </a:rPr>
              <a:t>subsets of </a:t>
            </a:r>
            <a:r>
              <a:rPr b="0" i="1" lang="en-US" sz="3200" spc="-1" strike="noStrike">
                <a:solidFill>
                  <a:srgbClr val="008d8d"/>
                </a:solidFill>
                <a:latin typeface="CMMI10"/>
              </a:rPr>
              <a:t>X </a:t>
            </a:r>
            <a:r>
              <a:rPr b="0" lang="en-US" sz="3200" spc="-1" strike="noStrike">
                <a:solidFill>
                  <a:srgbClr val="008d8d"/>
                </a:solidFill>
                <a:latin typeface="CMBX10"/>
              </a:rPr>
              <a:t>can be obtain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d8d"/>
                </a:solidFill>
                <a:latin typeface="CMBX10"/>
              </a:rPr>
              <a:t>intersecting </a:t>
            </a:r>
            <a:r>
              <a:rPr b="0" i="1" lang="en-US" sz="3200" spc="-1" strike="noStrike">
                <a:solidFill>
                  <a:srgbClr val="008d8d"/>
                </a:solidFill>
                <a:latin typeface="CMMI10"/>
              </a:rPr>
              <a:t>X </a:t>
            </a:r>
            <a:r>
              <a:rPr b="0" lang="en-US" sz="3200" spc="-1" strike="noStrike">
                <a:solidFill>
                  <a:srgbClr val="008d8d"/>
                </a:solidFill>
                <a:latin typeface="CMBX10"/>
              </a:rPr>
              <a:t>with members of </a:t>
            </a:r>
            <a:r>
              <a:rPr b="0" i="1" lang="en-US" sz="3200" spc="-1" strike="noStrike">
                <a:solidFill>
                  <a:srgbClr val="008d8d"/>
                </a:solidFill>
                <a:latin typeface="CMSY10"/>
              </a:rPr>
              <a:t>R</a:t>
            </a:r>
            <a:r>
              <a:rPr b="0" lang="en-US" sz="3200" spc="-1" strike="noStrike">
                <a:solidFill>
                  <a:srgbClr val="008d8d"/>
                </a:solidFill>
                <a:latin typeface="CMBX10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MSY10"/>
              </a:rPr>
              <a:t>² </a:t>
            </a:r>
            <a:r>
              <a:rPr b="0" lang="en-US" sz="3200" spc="-1" strike="noStrike">
                <a:solidFill>
                  <a:srgbClr val="7d26cd"/>
                </a:solidFill>
                <a:latin typeface="CMBX10"/>
              </a:rPr>
              <a:t>That is, for any </a:t>
            </a:r>
            <a:r>
              <a:rPr b="0" i="1" lang="en-US" sz="3200" spc="-1" strike="noStrike">
                <a:solidFill>
                  <a:srgbClr val="7d26cd"/>
                </a:solidFill>
                <a:latin typeface="CMMI10"/>
              </a:rPr>
              <a:t>Y </a:t>
            </a:r>
            <a:r>
              <a:rPr b="0" i="1" lang="en-US" sz="3200" spc="-1" strike="noStrike">
                <a:solidFill>
                  <a:srgbClr val="7d26cd"/>
                </a:solidFill>
                <a:latin typeface="CMSY10"/>
              </a:rPr>
              <a:t>µ </a:t>
            </a:r>
            <a:r>
              <a:rPr b="0" i="1" lang="en-US" sz="3200" spc="-1" strike="noStrike">
                <a:solidFill>
                  <a:srgbClr val="7d26cd"/>
                </a:solidFill>
                <a:latin typeface="CMMI10"/>
              </a:rPr>
              <a:t>X</a:t>
            </a:r>
            <a:r>
              <a:rPr b="0" lang="en-US" sz="3200" spc="-1" strike="noStrike">
                <a:solidFill>
                  <a:srgbClr val="7d26cd"/>
                </a:solidFill>
                <a:latin typeface="CMBX10"/>
              </a:rPr>
              <a:t>, there is s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CMMI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d26cd"/>
                </a:solidFill>
                <a:latin typeface="CMMI10"/>
              </a:rPr>
              <a:t>A </a:t>
            </a:r>
            <a:r>
              <a:rPr b="0" i="1" lang="en-US" sz="3200" spc="-1" strike="noStrike">
                <a:solidFill>
                  <a:srgbClr val="7d26cd"/>
                </a:solidFill>
                <a:latin typeface="CMSY10"/>
              </a:rPr>
              <a:t>2 R </a:t>
            </a:r>
            <a:r>
              <a:rPr b="0" lang="en-US" sz="3200" spc="-1" strike="noStrike">
                <a:solidFill>
                  <a:srgbClr val="7d26cd"/>
                </a:solidFill>
                <a:latin typeface="CMBX10"/>
              </a:rPr>
              <a:t>such that </a:t>
            </a:r>
            <a:r>
              <a:rPr b="0" i="1" lang="en-US" sz="3200" spc="-1" strike="noStrike">
                <a:solidFill>
                  <a:srgbClr val="7d26cd"/>
                </a:solidFill>
                <a:latin typeface="CMMI10"/>
              </a:rPr>
              <a:t>Y </a:t>
            </a:r>
            <a:r>
              <a:rPr b="0" lang="en-US" sz="3200" spc="-1" strike="noStrike">
                <a:solidFill>
                  <a:srgbClr val="7d26cd"/>
                </a:solidFill>
                <a:latin typeface="CMR10"/>
              </a:rPr>
              <a:t>= </a:t>
            </a:r>
            <a:r>
              <a:rPr b="0" i="1" lang="en-US" sz="3200" spc="-1" strike="noStrike">
                <a:solidFill>
                  <a:srgbClr val="7d26cd"/>
                </a:solidFill>
                <a:latin typeface="CMMI10"/>
              </a:rPr>
              <a:t>X </a:t>
            </a:r>
            <a:r>
              <a:rPr b="0" i="1" lang="en-US" sz="3200" spc="-1" strike="noStrike">
                <a:solidFill>
                  <a:srgbClr val="7d26cd"/>
                </a:solidFill>
                <a:latin typeface="CMSY10"/>
              </a:rPr>
              <a:t>\ </a:t>
            </a:r>
            <a:r>
              <a:rPr b="0" i="1" lang="en-US" sz="3200" spc="-1" strike="noStrike">
                <a:solidFill>
                  <a:srgbClr val="7d26cd"/>
                </a:solidFill>
                <a:latin typeface="CMMI10"/>
              </a:rPr>
              <a:t>A</a:t>
            </a:r>
            <a:r>
              <a:rPr b="0" lang="en-US" sz="3200" spc="-1" strike="noStrike">
                <a:solidFill>
                  <a:srgbClr val="7d26cd"/>
                </a:solidFill>
                <a:latin typeface="CMBX10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MSY10"/>
              </a:rPr>
              <a:t>² </a:t>
            </a:r>
            <a:r>
              <a:rPr b="0" lang="en-US" sz="3200" spc="-1" strike="noStrike">
                <a:solidFill>
                  <a:srgbClr val="7d26cd"/>
                </a:solidFill>
                <a:latin typeface="CMBX10"/>
              </a:rPr>
              <a:t>Examples: </a:t>
            </a:r>
            <a:r>
              <a:rPr b="0" i="1" lang="en-US" sz="3200" spc="-1" strike="noStrike">
                <a:solidFill>
                  <a:srgbClr val="7d26cd"/>
                </a:solidFill>
                <a:latin typeface="CMSY10"/>
              </a:rPr>
              <a:t>U </a:t>
            </a:r>
            <a:r>
              <a:rPr b="0" lang="en-US" sz="3200" spc="-1" strike="noStrike">
                <a:solidFill>
                  <a:srgbClr val="7d26cd"/>
                </a:solidFill>
                <a:latin typeface="CMR10"/>
              </a:rPr>
              <a:t>= </a:t>
            </a:r>
            <a:r>
              <a:rPr b="0" lang="en-US" sz="3200" spc="-1" strike="noStrike">
                <a:solidFill>
                  <a:srgbClr val="7d26cd"/>
                </a:solidFill>
                <a:latin typeface="CMBX10"/>
              </a:rPr>
              <a:t>points in the plane. </a:t>
            </a:r>
            <a:r>
              <a:rPr b="0" i="1" lang="en-US" sz="3200" spc="-1" strike="noStrike">
                <a:solidFill>
                  <a:srgbClr val="7d26cd"/>
                </a:solidFill>
                <a:latin typeface="CMSY10"/>
              </a:rPr>
              <a:t>R </a:t>
            </a:r>
            <a:r>
              <a:rPr b="0" lang="en-US" sz="3200" spc="-1" strike="noStrike">
                <a:solidFill>
                  <a:srgbClr val="7d26cd"/>
                </a:solidFill>
                <a:latin typeface="CMR10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26cd"/>
                </a:solidFill>
                <a:latin typeface="CMBX10"/>
              </a:rPr>
              <a:t>half-spa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1185840" y="2428920"/>
            <a:ext cx="6772320" cy="20001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1185840" y="2219400"/>
            <a:ext cx="67723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d8d"/>
                </a:solidFill>
                <a:latin typeface="CMBX10"/>
              </a:rPr>
              <a:t>The shatter function measures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00cd"/>
                </a:solidFill>
                <a:latin typeface="CMBX10"/>
              </a:rPr>
              <a:t>complexity </a:t>
            </a:r>
            <a:r>
              <a:rPr b="0" lang="en-US" sz="2800" spc="-1" strike="noStrike">
                <a:solidFill>
                  <a:srgbClr val="008d8d"/>
                </a:solidFill>
                <a:latin typeface="CMBX10"/>
              </a:rPr>
              <a:t>of the set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MSY10"/>
              </a:rPr>
              <a:t>² </a:t>
            </a:r>
            <a:r>
              <a:rPr b="0" lang="en-US" sz="2800" spc="-1" strike="noStrike">
                <a:solidFill>
                  <a:srgbClr val="7d26cd"/>
                </a:solidFill>
                <a:latin typeface="CMBX10"/>
              </a:rPr>
              <a:t>If instead of half-spaces, we used ellips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6cd"/>
                </a:solidFill>
                <a:latin typeface="CMBX10"/>
              </a:rPr>
              <a:t>then (ii) and (iii) can be shattered as we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MSY10"/>
              </a:rPr>
              <a:t>² </a:t>
            </a:r>
            <a:r>
              <a:rPr b="0" lang="en-US" sz="2800" spc="-1" strike="noStrike">
                <a:solidFill>
                  <a:srgbClr val="008d8d"/>
                </a:solidFill>
                <a:latin typeface="CMBX10"/>
              </a:rPr>
              <a:t>So, the set system of ellipses has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d8d"/>
                </a:solidFill>
                <a:latin typeface="CMBX10"/>
              </a:rPr>
              <a:t>complexity than half-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d00cd"/>
                </a:solidFill>
                <a:latin typeface="CMBX10"/>
              </a:rPr>
              <a:t>VC Dimension: </a:t>
            </a:r>
            <a:r>
              <a:rPr b="0" lang="en-US" sz="2800" spc="-1" strike="noStrike">
                <a:solidFill>
                  <a:srgbClr val="7d26cd"/>
                </a:solidFill>
                <a:latin typeface="CMBX10"/>
              </a:rPr>
              <a:t>The VC dimension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6cd"/>
                </a:solidFill>
                <a:latin typeface="CMBX10"/>
              </a:rPr>
              <a:t>set system </a:t>
            </a:r>
            <a:r>
              <a:rPr b="0" lang="en-US" sz="2800" spc="-1" strike="noStrike">
                <a:solidFill>
                  <a:srgbClr val="7d26cd"/>
                </a:solidFill>
                <a:latin typeface="CMR10"/>
              </a:rPr>
              <a:t>(</a:t>
            </a:r>
            <a:r>
              <a:rPr b="0" i="1" lang="en-US" sz="2800" spc="-1" strike="noStrike">
                <a:solidFill>
                  <a:srgbClr val="7d26cd"/>
                </a:solidFill>
                <a:latin typeface="CMSY10"/>
              </a:rPr>
              <a:t>U</a:t>
            </a:r>
            <a:r>
              <a:rPr b="0" i="1" lang="en-US" sz="2800" spc="-1" strike="noStrike">
                <a:solidFill>
                  <a:srgbClr val="7d26cd"/>
                </a:solidFill>
                <a:latin typeface="CMMI10"/>
              </a:rPr>
              <a:t>;</a:t>
            </a:r>
            <a:r>
              <a:rPr b="0" i="1" lang="en-US" sz="2800" spc="-1" strike="noStrike">
                <a:solidFill>
                  <a:srgbClr val="7d26cd"/>
                </a:solidFill>
                <a:latin typeface="CMSY10"/>
              </a:rPr>
              <a:t>R</a:t>
            </a:r>
            <a:r>
              <a:rPr b="0" lang="en-US" sz="2800" spc="-1" strike="noStrike">
                <a:solidFill>
                  <a:srgbClr val="7d26cd"/>
                </a:solidFill>
                <a:latin typeface="CMR10"/>
              </a:rPr>
              <a:t>) </a:t>
            </a:r>
            <a:r>
              <a:rPr b="0" lang="en-US" sz="2800" spc="-1" strike="noStrike">
                <a:solidFill>
                  <a:srgbClr val="7d26cd"/>
                </a:solidFill>
                <a:latin typeface="CMBX10"/>
              </a:rPr>
              <a:t>is the maximum size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6cd"/>
                </a:solidFill>
                <a:latin typeface="CMBX10"/>
              </a:rPr>
              <a:t>any set </a:t>
            </a:r>
            <a:r>
              <a:rPr b="0" i="1" lang="en-US" sz="2800" spc="-1" strike="noStrike">
                <a:solidFill>
                  <a:srgbClr val="7d26cd"/>
                </a:solidFill>
                <a:latin typeface="CMMI10"/>
              </a:rPr>
              <a:t>X </a:t>
            </a:r>
            <a:r>
              <a:rPr b="0" i="1" lang="en-US" sz="2800" spc="-1" strike="noStrike">
                <a:solidFill>
                  <a:srgbClr val="7d26cd"/>
                </a:solidFill>
                <a:latin typeface="CMSY10"/>
              </a:rPr>
              <a:t>½ U </a:t>
            </a:r>
            <a:r>
              <a:rPr b="0" lang="en-US" sz="2800" spc="-1" strike="noStrike">
                <a:solidFill>
                  <a:srgbClr val="7d26cd"/>
                </a:solidFill>
                <a:latin typeface="CMBX10"/>
              </a:rPr>
              <a:t>shattered by </a:t>
            </a:r>
            <a:r>
              <a:rPr b="0" i="1" lang="en-US" sz="2800" spc="-1" strike="noStrike">
                <a:solidFill>
                  <a:srgbClr val="7d26cd"/>
                </a:solidFill>
                <a:latin typeface="CMSY10"/>
              </a:rPr>
              <a:t>R</a:t>
            </a:r>
            <a:r>
              <a:rPr b="0" lang="en-US" sz="2800" spc="-1" strike="noStrike">
                <a:solidFill>
                  <a:srgbClr val="7d26cd"/>
                </a:solidFill>
                <a:latin typeface="CMBX10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MSY10"/>
              </a:rPr>
              <a:t>² </a:t>
            </a:r>
            <a:r>
              <a:rPr b="0" lang="en-US" sz="2800" spc="-1" strike="noStrike">
                <a:solidFill>
                  <a:srgbClr val="7d26cd"/>
                </a:solidFill>
                <a:latin typeface="CMBX10"/>
              </a:rPr>
              <a:t>Thus, the half-spaces system has V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d33f1"/>
              </a:buClr>
              <a:buFont typeface="CMBX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26cd"/>
                </a:solidFill>
                <a:latin typeface="CMBX10"/>
              </a:rPr>
              <a:t>dimension </a:t>
            </a:r>
            <a:r>
              <a:rPr b="0" lang="en-US" sz="2800" spc="-1" strike="noStrike">
                <a:solidFill>
                  <a:srgbClr val="7d26cd"/>
                </a:solidFill>
                <a:latin typeface="CMR10"/>
              </a:rPr>
              <a:t>3</a:t>
            </a:r>
            <a:r>
              <a:rPr b="0" lang="en-US" sz="2800" spc="-1" strike="noStrike">
                <a:solidFill>
                  <a:srgbClr val="7d26cd"/>
                </a:solidFill>
                <a:latin typeface="CMBX10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ly 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)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shatters S if 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)  | =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C dimension of a class 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largest set S that shatters 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infin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 finite class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d33f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C-dim(C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g |C|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LCMSS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CMSS8"/>
              </a:rPr>
              <a:t>complexity is often but not always equal to the number of parameters (degrees of freedom) in the mod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33f1"/>
              </a:buClr>
              <a:buFont typeface="LCMSS8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CMSS8"/>
              </a:rPr>
              <a:t>Example: linear decision boundaries shatter (any) 3 points in 2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8001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3:15:26Z</dcterms:created>
  <dc:creator>Robert C. Berwick</dc:creator>
  <dc:description/>
  <dc:language>en-US</dc:language>
  <cp:lastModifiedBy>Robert C. Berwick</cp:lastModifiedBy>
  <dcterms:modified xsi:type="dcterms:W3CDTF">2003-05-05T18:10:46Z</dcterms:modified>
  <cp:revision>1605</cp:revision>
  <dc:subject/>
  <dc:title>6.863J Natural Language Processing Lecture 6: part-of-speech tagging to parsing</dc:title>
</cp:coreProperties>
</file>